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775-593D-4F37-89D6-5FEEBAD7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C34-580D-4E90-AAEB-A807177C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32B-3FAD-4C66-9D4F-29A742A9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480-16EC-4452-8FD7-BD487AB2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B36C-2B0F-4267-99AB-ECBBAD76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7B502-3383-431F-A62C-275A8125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6256-43F7-48C9-8ED3-305466FC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18F5-BB97-411F-AB09-EDC78C72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0DF9-8693-4B42-A388-7648A005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084F-0E74-4CE1-A1DC-38ED34F3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00B3-AB29-48E4-935F-1779B29D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6B78-6639-448F-AA39-F2FB12F8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26FE-FC15-45A2-AB62-62FEC08E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0D25-BABE-4B18-8DFB-8812CA5A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0585-64A2-4547-A686-363E655B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1938-C349-4733-A135-4B8334B8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582C-DB82-4C11-AAE8-1CB6C1EF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2F5-61E0-469C-9982-9AE943EC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456-B2BA-4625-B79E-B39FD095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EBB-FE93-47AC-9948-4484A4A45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AA7-2DC6-4D65-9503-6A4865F3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E726-2784-4FE1-89DC-DF33D729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4B2-D774-4205-BE32-F29836A4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1353-CF49-436D-84EB-A316E8BD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178E-9D49-416E-B199-10D8A8AECB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9256-8E33-4991-B6CC-72224C761A7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GA i problem putujućeg trgovca</a:t>
            </a:r>
            <a:r>
              <a:rPr b="0" lang="sl-SI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0458c"/>
                </a:solidFill>
                <a:latin typeface="Tahoma"/>
              </a:rPr>
              <a:t>Metode i tehnike analize podatak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0458c"/>
                </a:solidFill>
                <a:latin typeface="Tahoma"/>
              </a:rPr>
              <a:t>Prof. dr Zita Bošnja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Modifikacija operacije ukršt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tandardno ukrštanje rezultuje pogrešnim permutacijama - potencijalnim rešenjim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40458c"/>
                </a:solidFill>
                <a:latin typeface="Tahoma"/>
              </a:rPr>
              <a:t>Partially matched crossover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(PMX) – delimično uparivanje ukrštanjem </a:t>
            </a:r>
            <a:r>
              <a:rPr b="0" lang="sl-SI" sz="2800" spc="-1" strike="noStrike" u="sng">
                <a:solidFill>
                  <a:srgbClr val="40458c"/>
                </a:solidFill>
                <a:uFillTx/>
                <a:latin typeface="Tahoma"/>
              </a:rPr>
              <a:t>na dve tač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     A D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     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B C D E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D B         A C E B 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174760" y="3014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6864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814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410080" y="29718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436760" y="5111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200480" y="5068800"/>
            <a:ext cx="0" cy="838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0048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90800" y="510696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01960" y="491184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48040" y="511020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759200" y="491508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0" y="5638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00cc00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 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29000" y="6035760"/>
            <a:ext cx="20574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1. ko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21120" y="6019920"/>
            <a:ext cx="1920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2. ko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986440" y="502776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86440" y="48751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34000" y="506880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45160" y="487368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55160" y="4721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24360" y="50688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68920" y="553248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232160" y="5051520"/>
            <a:ext cx="228600" cy="30456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37200" y="4721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5136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80000" y="566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5592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174920" y="57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89440" y="50292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852440" y="468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64360" y="54864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64360" y="50292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66080" y="46054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164640" y="5648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82040" y="55627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5181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454040" y="4876920"/>
            <a:ext cx="304920" cy="10666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93800" y="4889520"/>
            <a:ext cx="304920" cy="1066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215200" y="514044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15200" y="498780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763120" y="518148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774280" y="498636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88200" y="4900680"/>
            <a:ext cx="609840" cy="106668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660066"/>
                </a:solidFill>
                <a:latin typeface="Tahoma"/>
              </a:rPr>
              <a:t>Tipični rezultati GA </a:t>
            </a:r>
            <a:r>
              <a:rPr b="0" lang="sl-SI" sz="32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sl-SI" sz="2800" spc="-1" strike="noStrike">
                <a:solidFill>
                  <a:srgbClr val="660066"/>
                </a:solidFill>
                <a:latin typeface="Tahoma"/>
              </a:rPr>
              <a:t>za ovaj problem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0458c"/>
                </a:solidFill>
                <a:latin typeface="Tahoma"/>
              </a:rPr>
              <a:t>Za 100 slučajno generisanih gradova,  posle 20 000 generacija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cena celokupnog obilaska je za 9,4% veća od minimaln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660066"/>
                </a:solidFill>
                <a:latin typeface="Tahoma"/>
              </a:rPr>
              <a:t>Definicija probl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0458c"/>
                </a:solidFill>
                <a:latin typeface="Tahoma"/>
              </a:rPr>
              <a:t>Putujući trgovac mora posetiti sve gradove na svojoj teritoriji tačno jednom i vratiti se u početni gr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0458c"/>
                </a:solidFill>
                <a:latin typeface="Tahoma"/>
              </a:rPr>
              <a:t>Ako znamo troškove prevoza između gradova, kako da osmislimo maršrutu tako da troškovi budu minimalni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660066"/>
                </a:solidFill>
                <a:latin typeface="Tahoma"/>
              </a:rPr>
              <a:t>Karakteristike proble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Problem kombinatorme optimizaci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Grafička reprezentacija problem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neusmeren, ponderisani graf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vako potencijalno rešenje je permutacija gradova. Npr: A D E B C (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Nisu sve permutacije validne - ne mora postojati direktna veza među svim gradovi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dodelićemo neprirodno veliku vrednost tim “konekcijama”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Primer grafa 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 optimalno re</a:t>
            </a: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š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enj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676520" y="1487520"/>
            <a:ext cx="5841000" cy="2932920"/>
            <a:chOff x="1676520" y="1487520"/>
            <a:chExt cx="5841000" cy="2932920"/>
          </a:xfrm>
        </p:grpSpPr>
        <p:grpSp>
          <p:nvGrpSpPr>
            <p:cNvPr id="216" name=""/>
            <p:cNvGrpSpPr/>
            <p:nvPr/>
          </p:nvGrpSpPr>
          <p:grpSpPr>
            <a:xfrm>
              <a:off x="1981080" y="1487520"/>
              <a:ext cx="5536440" cy="2932920"/>
              <a:chOff x="1981080" y="1487520"/>
              <a:chExt cx="5536440" cy="2932920"/>
            </a:xfrm>
          </p:grpSpPr>
          <p:sp>
            <p:nvSpPr>
              <p:cNvPr id="217" name=""/>
              <p:cNvSpPr/>
              <p:nvPr/>
            </p:nvSpPr>
            <p:spPr>
              <a:xfrm>
                <a:off x="1981080" y="1987200"/>
                <a:ext cx="5029200" cy="2057040"/>
              </a:xfrm>
              <a:prstGeom prst="rect">
                <a:avLst/>
              </a:prstGeom>
              <a:noFill/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039760" y="28587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49440" y="14875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9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030480" y="2172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545080" y="20970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198600" y="34351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73480" y="39607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8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410080" y="34034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989400" y="285876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10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1752480" y="1866960"/>
              <a:ext cx="609840" cy="533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76520" y="3772080"/>
              <a:ext cx="609480" cy="533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05720" y="1790640"/>
              <a:ext cx="609480" cy="533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3772080"/>
              <a:ext cx="609480" cy="53316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14800" y="2781360"/>
              <a:ext cx="609480" cy="533520"/>
            </a:xfrm>
            <a:prstGeom prst="ellipse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286000" y="3161880"/>
              <a:ext cx="1828800" cy="76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86000" y="2324160"/>
              <a:ext cx="1828800" cy="6094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724280" y="2247480"/>
              <a:ext cx="2057400" cy="6858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24280" y="3162240"/>
              <a:ext cx="1981440" cy="762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1920" y="4492800"/>
            <a:ext cx="8870400" cy="1678680"/>
            <a:chOff x="61920" y="4492800"/>
            <a:chExt cx="8870400" cy="1678680"/>
          </a:xfrm>
        </p:grpSpPr>
        <p:grpSp>
          <p:nvGrpSpPr>
            <p:cNvPr id="236" name=""/>
            <p:cNvGrpSpPr/>
            <p:nvPr/>
          </p:nvGrpSpPr>
          <p:grpSpPr>
            <a:xfrm>
              <a:off x="1790640" y="4492800"/>
              <a:ext cx="6492960" cy="780120"/>
              <a:chOff x="1790640" y="4492800"/>
              <a:chExt cx="6492960" cy="780120"/>
            </a:xfrm>
          </p:grpSpPr>
          <p:sp>
            <p:nvSpPr>
              <p:cNvPr id="237" name=""/>
              <p:cNvSpPr/>
              <p:nvPr/>
            </p:nvSpPr>
            <p:spPr>
              <a:xfrm>
                <a:off x="1790640" y="4813200"/>
                <a:ext cx="649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A----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B 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C 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E -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D -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(A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2217600" y="4492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9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284280" y="4492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27280" y="452124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93960" y="4497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8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89600" y="45036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176400" y="47944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Optimum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920" y="5675400"/>
              <a:ext cx="18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Mogući put: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20440" y="4816440"/>
              <a:ext cx="88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</a:t>
              </a: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=3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819440" y="5372280"/>
              <a:ext cx="6492600" cy="780120"/>
              <a:chOff x="1819440" y="5372280"/>
              <a:chExt cx="6492600" cy="780120"/>
            </a:xfrm>
          </p:grpSpPr>
          <p:sp>
            <p:nvSpPr>
              <p:cNvPr id="247" name=""/>
              <p:cNvSpPr/>
              <p:nvPr/>
            </p:nvSpPr>
            <p:spPr>
              <a:xfrm>
                <a:off x="1819440" y="5692680"/>
                <a:ext cx="649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A----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D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E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B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-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C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 ------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400" spc="-1" strike="noStrike">
                    <a:solidFill>
                      <a:srgbClr val="40458c"/>
                    </a:solidFill>
                    <a:latin typeface="Tahoma"/>
                  </a:rPr>
                  <a:t>(A)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45680" y="537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12720" y="53722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8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452120" y="540072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10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522400" y="53769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817680" y="5383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l-SI" sz="2400" spc="-1" strike="noStrike">
                    <a:solidFill>
                      <a:srgbClr val="40458c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8050320" y="5711760"/>
              <a:ext cx="88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400" spc="-1" strike="noStrike">
                  <a:solidFill>
                    <a:srgbClr val="40458c"/>
                  </a:solidFill>
                  <a:latin typeface="Symbol"/>
                  <a:ea typeface="Symbol"/>
                </a:rPr>
                <a:t></a:t>
              </a:r>
              <a:r>
                <a:rPr b="0" lang="sl-SI" sz="2400" spc="-1" strike="noStrike">
                  <a:solidFill>
                    <a:srgbClr val="40458c"/>
                  </a:solidFill>
                  <a:latin typeface="Tahoma"/>
                </a:rPr>
                <a:t>=36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660066"/>
                </a:solidFill>
                <a:latin typeface="Tahoma"/>
              </a:rPr>
              <a:t>Cil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Minimizirati ukupnu razdaljinu za rezultujuću maršrutu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Funkcija dobrote je jednaka udaljenosti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f(s) = 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Fitnes funkcija za maksimizaciju bi bil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f(s) = 1/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f(s) = 1/s</a:t>
            </a:r>
            <a:r>
              <a:rPr b="0" lang="sl-SI" sz="24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Ako ne odaberemo dobru fitnes f-ju, nećemo moći naći optimalno ili skoro-optimalno rešenj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Modifikacija operacije ukršt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tandardno ukrštanje rezultuje pogrešnim permutacijama - potencijalnim rešenjim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40458c"/>
                </a:solidFill>
                <a:latin typeface="Tahoma"/>
              </a:rPr>
              <a:t>Partially matched crossover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(PMX) – delimično uparivanje ukrštanjem </a:t>
            </a:r>
            <a:r>
              <a:rPr b="0" lang="sl-SI" sz="2800" spc="-1" strike="noStrike" u="sng">
                <a:solidFill>
                  <a:srgbClr val="40458c"/>
                </a:solidFill>
                <a:uFillTx/>
                <a:latin typeface="Tahoma"/>
              </a:rPr>
              <a:t>na dve tač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2174760" y="3014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6864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814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10080" y="29718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1008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36760" y="5111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90800" y="510696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01960" y="491184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Modifikacija operacije ukršt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tandardno ukrštanje rezultuje pogrešnim permutacijama - potencijalnim rešenjim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40458c"/>
                </a:solidFill>
                <a:latin typeface="Tahoma"/>
              </a:rPr>
              <a:t>Partially matched crossover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(PMX) – delimično uparivanje ukrštanjem </a:t>
            </a:r>
            <a:r>
              <a:rPr b="0" lang="sl-SI" sz="2800" spc="-1" strike="noStrike" u="sng">
                <a:solidFill>
                  <a:srgbClr val="40458c"/>
                </a:solidFill>
                <a:uFillTx/>
                <a:latin typeface="Tahoma"/>
              </a:rPr>
              <a:t>na dve tač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2174760" y="3014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6864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814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29718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1008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36760" y="5111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4382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90800" y="510696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01960" y="491184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0" y="5638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00cc00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 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54040" y="4876920"/>
            <a:ext cx="304920" cy="10666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93800" y="4889520"/>
            <a:ext cx="304920" cy="1066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Modifikacija operacije ukršt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tandardno ukrštanje rezultuje pogrešnim permutacijama - potencijalnim rešenjim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40458c"/>
                </a:solidFill>
                <a:latin typeface="Tahoma"/>
              </a:rPr>
              <a:t>Partially matched crossover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(PMX) – delimično uparivanje ukrštanjem </a:t>
            </a:r>
            <a:r>
              <a:rPr b="0" lang="sl-SI" sz="2800" spc="-1" strike="noStrike" u="sng">
                <a:solidFill>
                  <a:srgbClr val="40458c"/>
                </a:solidFill>
                <a:uFillTx/>
                <a:latin typeface="Tahoma"/>
              </a:rPr>
              <a:t>na dve tač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2174760" y="3014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6864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814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29718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36760" y="5111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44792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00480" y="5068800"/>
            <a:ext cx="0" cy="838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0048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90800" y="510696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001960" y="491184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48040" y="511020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59200" y="491508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286000" y="5638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00cc00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 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29000" y="6035760"/>
            <a:ext cx="20574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1. ko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32160" y="5051520"/>
            <a:ext cx="228600" cy="30456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37200" y="4721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5136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80000" y="566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5592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74920" y="57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789440" y="50292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852440" y="468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54040" y="4876920"/>
            <a:ext cx="304920" cy="10666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4889520"/>
            <a:ext cx="304920" cy="1066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660066"/>
                </a:solidFill>
                <a:latin typeface="Tahoma"/>
              </a:rPr>
              <a:t>Modifikacija operacije ukrštanj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Standardno ukrštanje rezultuje pogrešnim permutacijama - potencijalnim rešenjim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D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B </a:t>
            </a: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40458c"/>
                </a:solidFill>
                <a:latin typeface="Tahoma"/>
              </a:rPr>
              <a:t>Partially matched crossover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 (PMX) – delimično uparivanje ukrštanjem </a:t>
            </a:r>
            <a:r>
              <a:rPr b="0" lang="sl-SI" sz="2800" spc="-1" strike="noStrike" u="sng">
                <a:solidFill>
                  <a:srgbClr val="40458c"/>
                </a:solidFill>
                <a:uFillTx/>
                <a:latin typeface="Tahoma"/>
              </a:rPr>
              <a:t>na dve tačk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D E B C     A D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E C D B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D 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2174760" y="3014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6864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814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10080" y="297180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2819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36760" y="511164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00480" y="5068800"/>
            <a:ext cx="0" cy="83844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0480" y="49165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90800" y="510696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01960" y="491184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48040" y="511020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59200" y="491508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0" y="5638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 </a:t>
            </a:r>
            <a:r>
              <a:rPr b="0" lang="sl-SI" sz="2400" spc="-1" strike="noStrike">
                <a:solidFill>
                  <a:srgbClr val="00cc00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 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 </a:t>
            </a:r>
            <a:r>
              <a:rPr b="0" lang="sl-SI" sz="2400" spc="-1" strike="noStrike">
                <a:solidFill>
                  <a:srgbClr val="ff00ff"/>
                </a:solidFill>
                <a:latin typeface="Symbol"/>
                <a:ea typeface="Symbol"/>
              </a:rPr>
              <a:t></a:t>
            </a: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 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429000" y="6035760"/>
            <a:ext cx="20574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1. ko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21120" y="6019920"/>
            <a:ext cx="1920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40458c"/>
                </a:solidFill>
                <a:latin typeface="Tahoma"/>
              </a:rPr>
              <a:t>2. korak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86440" y="5027760"/>
            <a:ext cx="0" cy="838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86440" y="487512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534000" y="5068800"/>
            <a:ext cx="0" cy="7192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45160" y="4873680"/>
            <a:ext cx="0" cy="228600"/>
          </a:xfrm>
          <a:prstGeom prst="line">
            <a:avLst/>
          </a:prstGeom>
          <a:ln w="381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55160" y="4721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24360" y="50688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568920" y="553248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32160" y="5051520"/>
            <a:ext cx="228600" cy="30456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237200" y="47214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5136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80000" y="5665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55920" y="54864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174920" y="5700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89440" y="5029200"/>
            <a:ext cx="228600" cy="30492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52440" y="4681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264360" y="54864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64360" y="5029200"/>
            <a:ext cx="228600" cy="30492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66080" y="46054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64640" y="56484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82040" y="55627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54040" y="4876920"/>
            <a:ext cx="304920" cy="10666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93800" y="4889520"/>
            <a:ext cx="304920" cy="1066680"/>
          </a:xfrm>
          <a:prstGeom prst="ellipse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5:07:57Z</dcterms:created>
  <dc:creator>ce</dc:creator>
  <dc:description/>
  <dc:language>en-US</dc:language>
  <cp:lastModifiedBy>ce</cp:lastModifiedBy>
  <dcterms:modified xsi:type="dcterms:W3CDTF">2004-03-25T11:45:08Z</dcterms:modified>
  <cp:revision>19</cp:revision>
  <dc:subject/>
  <dc:title>GA i problem putujućeg trgovca </dc:title>
</cp:coreProperties>
</file>