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95E-56B7-4D65-BF0F-4BCF05E3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7423-F2F9-4F3F-B7C2-01AF2EFF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AA4-B1A4-441F-96A0-8927FA00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310-78DB-493A-BB61-362858C85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DAB9-DB2B-4B82-A7C4-11EF14DF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89F8-F238-445C-9B99-B1F95B38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3913-9054-42EB-B58A-CF37D03F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1C69-3CB0-4B12-8752-6DD140E5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7FD2-B3AB-4DB4-A222-6B9ABABC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FFB6-E52E-4F10-B694-C338C73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11B4-583C-404C-8EF3-280B60DB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A116-941E-4C96-85D7-D33BABDC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640-E64F-41A0-ADE7-352DAF8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4F34-D976-4751-8A2E-106980E4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F391-F1EB-4E6F-AA8D-470B6DE1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5960-B3BD-49D8-8008-FA5ECEE6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833-774C-41D8-BC15-F6C06E47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7BFC-CCC0-45CB-921C-60C6F7CC0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A526-0F28-443A-940A-9B8CDBEA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7E907-7A1E-4C60-AAFA-23E6AAF3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3DF52-C049-490D-8AFA-EBE9ED6A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F7E8C-94A9-419C-AB04-DC65383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FEA-770A-4EE8-AD22-69FB3E0B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2F5F4-0174-408B-A6B2-D2F4E41D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D179D-0C19-4A2A-9B70-1C711BC7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884C-DF90-4965-B9D1-DCA59F26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DAC93-03AA-4827-A528-D2D058C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6F8D7-F8E2-414A-A302-E0AA1D8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9FDAF-A9C5-434F-9638-940619EDF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DB002-1B3B-47C5-92CA-600B7FE8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F716-EF49-4964-B73E-E1A21A3C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E30C-1082-4F83-8A2D-0D48EA82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C3854-6B41-4F37-8A58-55A6164B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FEC4-E53B-4B58-8476-2EB6EA7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B181-AFCB-4BB5-BB51-65A3ECF8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8259-9A44-496E-BC8B-7D20316D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0DAE-DF78-42AF-8C75-49846381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2B8C3-7D70-4AEF-A334-2711988F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6A6F9-DFA6-43FB-A6CB-AA5767AB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C20E-CFBA-4574-9699-93BF5651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781B-F157-4CC2-885E-2FF8FBC9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21D4F-BD88-4276-9240-1AEF48BA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BD95C-DCAB-4868-B2D3-7C27DAD4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97952-895C-4992-A918-A28E24EBD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9910-4716-49BD-9CBE-2808FCB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644DE-7C9E-4C36-B7B7-DF5B4B18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4F85C-1683-4A21-ABFE-3058772E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EB22D-6946-4402-8374-92514B8A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5D09-70A3-419A-8297-5180EB3C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04FAC-3244-42C6-A61B-6DFE0F7B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F5778-E5AC-4A37-B292-81DADAE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7BADD-EE8C-4378-9F03-EE5EC798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2A6A-9170-418D-AF44-78600733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EDB33-D78F-4977-8CC8-5D666BA4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87D93-B74C-482D-9E28-7FE834656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258F-958E-4F69-9EBD-BA2CE18D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E89F-4250-43AA-BC0A-845B85D5D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2CE43-61A6-4B3B-A1BB-AB63CA3F2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BEDA-BA50-490E-AEF9-20BE3446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8D82A-F5E2-4E39-A182-94C579EB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DB855-F88F-416D-8519-121D758A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F02F9-2901-453C-ACA6-4FD442F0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91C91-D47F-42E0-8A0E-984F9C37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10B0F-5CF3-41FA-95FA-3EF08538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C8DC-1A4E-463B-961F-A8A307FF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8499C-225A-418D-A48C-24EB26CC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59D-AF83-4572-BC9B-262D7101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AECF1-08C2-49D6-8F07-CB4D0C0D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632BD-A9C4-4BE7-8644-F8872116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6242A-5B44-4782-B746-23326D7C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434E0-8C68-4F27-AAAD-6C0B3A1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BBB72-BDB9-47F3-AD6B-E3285D2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F197-4331-4D3B-9B44-B92004EB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099CD-8BB5-452F-8C44-79DD52F8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18CFA-66EC-4711-8E70-F471A528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9D5E9-5609-404A-95F7-716F1A1A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86847-3BEA-4867-832D-AB7C23CE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7E1-ED5F-4772-9323-0AB31A87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B7D12-873A-4905-BBEB-5415212C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CF194-A526-44C6-AFB2-6E7544CC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D853-2609-4E0B-BC5F-727C63DD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E022-6224-4D18-9910-F073A62DC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281DA-1286-4414-AD8B-43E780BF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CB0BD-2CEE-4C20-8727-2AFAEBDB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0A8BB-1AE1-4287-A28A-AE380B2B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B1C62-D409-4119-AD36-B723E14D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EF007-E66E-47EC-8A8A-946E61CC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A4152-112E-487E-8F9B-23A96217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6F6-AE9C-4645-B378-BB1E186E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A3944-A7EC-4D3A-A2C6-E77E4153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98175-0F54-4B7D-BB85-24771B7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74FA2-81FB-4376-90CC-7AD13E0F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357CF-3511-49A6-91B7-BEE06BFA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7D82A-65CF-473F-9E22-B819758E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8E33F-7107-4C89-9201-E6B9F168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C0EB2-E08E-4A18-A5F6-3CAC484B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1163-5013-44CE-B0EE-F8E1DA5C501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C454-A03C-4653-8F9B-5B5AE48870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9743-1C88-4552-B35F-D32F01219C0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7869-A930-4B34-9F70-5FCABDEC249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54C9-C405-4CCF-82AE-4CD933FE39C0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6CD6-572A-4139-A5FB-8AD050D8850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2208-B3B9-420B-811C-B96D400F1C4D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2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237E-6470-4707-9093-DA91D3CF1D0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statpages.org/logistic.html" TargetMode="External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tatpages.org/logistic.html%20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Statističke tehnike DM –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Metode i tehnike analize podatak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320e04"/>
                </a:solidFill>
                <a:latin typeface="Gill Sans MT"/>
              </a:rPr>
              <a:t>Prof. dr Zita Bošnja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rcRect l="0" t="13866" r="52800" b="4267"/>
          <a:stretch/>
        </p:blipFill>
        <p:spPr>
          <a:xfrm>
            <a:off x="2000160" y="96840"/>
            <a:ext cx="6929640" cy="6761160"/>
          </a:xfrm>
          <a:prstGeom prst="rect">
            <a:avLst/>
          </a:prstGeom>
          <a:ln w="0">
            <a:noFill/>
          </a:ln>
        </p:spPr>
      </p:pic>
      <p:pic>
        <p:nvPicPr>
          <p:cNvPr id="405" name="TextBox 5" descr=""/>
          <p:cNvPicPr/>
          <p:nvPr/>
        </p:nvPicPr>
        <p:blipFill>
          <a:blip r:embed="rId2"/>
          <a:stretch/>
        </p:blipFill>
        <p:spPr>
          <a:xfrm>
            <a:off x="1036800" y="208080"/>
            <a:ext cx="88884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Object 0"/>
          <p:cNvGraphicFramePr/>
          <p:nvPr/>
        </p:nvGraphicFramePr>
        <p:xfrm>
          <a:off x="1000080" y="1285920"/>
          <a:ext cx="774864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285920"/>
                    <a:ext cx="774864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2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odaci za analizu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5"/>
          <p:cNvSpPr/>
          <p:nvPr/>
        </p:nvSpPr>
        <p:spPr>
          <a:xfrm>
            <a:off x="2571840" y="2214720"/>
            <a:ext cx="4429080" cy="3429000"/>
          </a:xfrm>
          <a:prstGeom prst="ellipse">
            <a:avLst/>
          </a:prstGeom>
          <a:noFill/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4148280" y="5572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LA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7219440" y="542916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IZLA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"/>
          <p:cNvPicPr/>
          <p:nvPr/>
        </p:nvPicPr>
        <p:blipFill>
          <a:blip r:embed="rId1"/>
          <a:srcRect l="0" t="12800" r="57603" b="14933"/>
          <a:stretch/>
        </p:blipFill>
        <p:spPr>
          <a:xfrm>
            <a:off x="127080" y="460440"/>
            <a:ext cx="6673680" cy="639756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2"/>
          <p:cNvSpPr/>
          <p:nvPr/>
        </p:nvSpPr>
        <p:spPr>
          <a:xfrm>
            <a:off x="3643200" y="4857840"/>
            <a:ext cx="857520" cy="142884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5429160" y="385776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ill Sans MT"/>
              </a:rPr>
              <a:t>Stvarne vs. izračunate vred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4"/>
          <p:cNvSpPr/>
          <p:nvPr/>
        </p:nvSpPr>
        <p:spPr>
          <a:xfrm>
            <a:off x="5429160" y="3643200"/>
            <a:ext cx="3429000" cy="78588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Straight Arrow Connector 6"/>
          <p:cNvCxnSpPr>
            <a:stCxn id="415" idx="1"/>
            <a:endCxn id="413" idx="0"/>
          </p:cNvCxnSpPr>
          <p:nvPr/>
        </p:nvCxnSpPr>
        <p:spPr>
          <a:xfrm flipH="1">
            <a:off x="4071600" y="4037040"/>
            <a:ext cx="1357920" cy="821520"/>
          </a:xfrm>
          <a:prstGeom prst="straightConnector1">
            <a:avLst/>
          </a:prstGeom>
          <a:ln w="34920">
            <a:solidFill>
              <a:srgbClr val="3891a7"/>
            </a:solidFill>
            <a:miter/>
            <a:tailEnd len="med" type="arrow" w="med"/>
          </a:ln>
        </p:spPr>
      </p:cxnSp>
      <p:sp>
        <p:nvSpPr>
          <p:cNvPr id="417" name="Rectangle 7"/>
          <p:cNvSpPr/>
          <p:nvPr/>
        </p:nvSpPr>
        <p:spPr>
          <a:xfrm>
            <a:off x="1071720" y="0"/>
            <a:ext cx="62150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StatPages.org/logistic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Object 0"/>
          <p:cNvGraphicFramePr/>
          <p:nvPr/>
        </p:nvGraphicFramePr>
        <p:xfrm>
          <a:off x="54000" y="1197000"/>
          <a:ext cx="9090000" cy="424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1197000"/>
                    <a:ext cx="909000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Rectangle 3"/>
          <p:cNvSpPr/>
          <p:nvPr/>
        </p:nvSpPr>
        <p:spPr>
          <a:xfrm>
            <a:off x="7812000" y="1773360"/>
            <a:ext cx="1000080" cy="3500280"/>
          </a:xfrm>
          <a:prstGeom prst="rect">
            <a:avLst/>
          </a:prstGeom>
          <a:solidFill>
            <a:srgbClr val="3891a7">
              <a:alpha val="37000"/>
            </a:srgbClr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258560" y="642960"/>
            <a:ext cx="7599240" cy="6572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N</a:t>
            </a:r>
            <a:r>
              <a:rPr b="1" lang="sl-SI" sz="2400" spc="-1" strike="noStrike">
                <a:solidFill>
                  <a:srgbClr val="320e04"/>
                </a:solidFill>
                <a:latin typeface="Gill Sans MT"/>
              </a:rPr>
              <a:t>elinearna regresiona tehnika </a:t>
            </a:r>
            <a:r>
              <a:rPr b="0" lang="sl-SI" sz="2400" spc="-1" strike="noStrike">
                <a:solidFill>
                  <a:srgbClr val="320e04"/>
                </a:solidFill>
                <a:latin typeface="Gill Sans MT"/>
              </a:rPr>
              <a:t>koja pridružuje uslovnu verovatnoću svakom entitetu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Odgovara na pitanja sledećeg oblik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Kako se menja verovatnoća da se dobije rak pluća,(DA vs. NE) sa svakim viškom kilograma i paklom popušenih cigareta dnevno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Da li težina, unete kalorije, unete masnoće i godine imaju uticaja na verovatnoću dobijanja infakta?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(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DA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vs.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NE)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320e04"/>
                </a:solidFill>
                <a:latin typeface="Gill Sans MT"/>
              </a:rPr>
              <a:t>Osnovne pretpostavke</a:t>
            </a:r>
            <a:r>
              <a:rPr b="1" lang="en-US" sz="2400" spc="-1" strike="noStrike">
                <a:solidFill>
                  <a:srgbClr val="320e04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Zavisna promenljiva je dihotomna (npr. prisustvo/odsustvo pojav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U podacima ne sme biti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outl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ejera (proveravamo konverzijom  kontinualnih podataka u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standardiz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ovanu vrednost i uklanjanjem vrednosti manjih od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-3.29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ili većih od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3.29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19160" indent="-921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Ne sme biti visoke korelacije (multikolinearnost) </a:t>
            </a:r>
            <a:r>
              <a:rPr b="0" lang="en-US" sz="2400" spc="-1" strike="noStrike">
                <a:solidFill>
                  <a:srgbClr val="320e04"/>
                </a:solidFill>
                <a:latin typeface="Gill Sans MT"/>
              </a:rPr>
              <a:t> </a:t>
            </a:r>
            <a:r>
              <a:rPr b="0" lang="sr-Latn-CS" sz="2400" spc="-1" strike="noStrike">
                <a:solidFill>
                  <a:srgbClr val="320e04"/>
                </a:solidFill>
                <a:latin typeface="Gill Sans MT"/>
              </a:rPr>
              <a:t>među prediktorima. (pravimo matricu korelacij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1071720" y="0"/>
            <a:ext cx="75438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141200" y="175428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...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c    (1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0 →     živ.osig.=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f(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,...,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)=1 →     </a:t>
            </a:r>
            <a:r>
              <a:rPr b="0" lang="hr-HR" sz="2600" spc="-1" strike="noStrike">
                <a:solidFill>
                  <a:srgbClr val="00b050"/>
                </a:solidFill>
                <a:latin typeface="Gill Sans MT"/>
              </a:rPr>
              <a:t>živ.osig.=d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iše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(</a:t>
            </a:r>
            <a:r>
              <a:rPr b="0" lang="hr-HR" sz="2600" spc="-1" strike="noStrike">
                <a:solidFill>
                  <a:srgbClr val="00b050"/>
                </a:solidFill>
                <a:latin typeface="Gill Sans MT"/>
              </a:rPr>
              <a:t>y=1</a:t>
            </a:r>
            <a:r>
              <a:rPr b="0" lang="hr-HR" sz="2600" spc="-1" strike="noStrike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) = 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...+a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+c      (2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Prevodimo u normalizovan oblik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tzv. log odd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Logaritmuje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5562720" y="4191120"/>
                <a:ext cx="217152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7"/>
              <p:cNvSpPr txBox="1"/>
              <p:nvPr/>
            </p:nvSpPr>
            <p:spPr>
              <a:xfrm>
                <a:off x="2195640" y="5562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Rectangle 2"/>
          <p:cNvSpPr/>
          <p:nvPr/>
        </p:nvSpPr>
        <p:spPr>
          <a:xfrm>
            <a:off x="1258920" y="260280"/>
            <a:ext cx="7010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572314"/>
                </a:solidFill>
                <a:latin typeface="Gill Sans MT"/>
              </a:rPr>
              <a:t>Transformacija linearnog</a:t>
            </a:r>
            <a:r>
              <a:rPr b="0" lang="en-US" sz="44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l-SI" sz="4400" spc="-1" strike="noStrike">
                <a:solidFill>
                  <a:srgbClr val="572314"/>
                </a:solidFill>
                <a:latin typeface="Gill Sans MT"/>
              </a:rPr>
              <a:t>modela regres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6480" y="148392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ešavamo j-nu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bija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Object 11"/>
              <p:cNvSpPr txBox="1"/>
              <p:nvPr/>
            </p:nvSpPr>
            <p:spPr>
              <a:xfrm>
                <a:off x="1403280" y="4005360"/>
                <a:ext cx="35384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1258920" y="2133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8" name="Text Box 13"/>
          <p:cNvSpPr/>
          <p:nvPr/>
        </p:nvSpPr>
        <p:spPr>
          <a:xfrm>
            <a:off x="1403280" y="522936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Model log</a:t>
            </a:r>
            <a:r>
              <a:rPr b="0" lang="en-US" sz="2800" spc="-1" strike="noStrike">
                <a:solidFill>
                  <a:srgbClr val="8dc765"/>
                </a:solidFill>
                <a:latin typeface="Gill Sans MT"/>
              </a:rPr>
              <a:t>aritamske</a:t>
            </a: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II Logaritamska regresij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96480" y="1483920"/>
            <a:ext cx="81471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Rešavamo j-nu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Dobijamo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(3)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Object 11"/>
              <p:cNvSpPr txBox="1"/>
              <p:nvPr/>
            </p:nvSpPr>
            <p:spPr>
              <a:xfrm>
                <a:off x="1403280" y="4005360"/>
                <a:ext cx="353844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5"/>
              <p:cNvSpPr txBox="1"/>
              <p:nvPr/>
            </p:nvSpPr>
            <p:spPr>
              <a:xfrm>
                <a:off x="1258920" y="2133720"/>
                <a:ext cx="694836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3" name="Text Box 13"/>
          <p:cNvSpPr/>
          <p:nvPr/>
        </p:nvSpPr>
        <p:spPr>
          <a:xfrm>
            <a:off x="1403280" y="522936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Model log</a:t>
            </a:r>
            <a:r>
              <a:rPr b="0" lang="en-US" sz="2800" spc="-1" strike="noStrike">
                <a:solidFill>
                  <a:srgbClr val="8dc765"/>
                </a:solidFill>
                <a:latin typeface="Gill Sans MT"/>
              </a:rPr>
              <a:t>aritamske</a:t>
            </a:r>
            <a:r>
              <a:rPr b="0" lang="hr-HR" sz="2800" spc="-1" strike="noStrike">
                <a:solidFill>
                  <a:srgbClr val="8dc765"/>
                </a:solidFill>
                <a:latin typeface="Gill Sans MT"/>
              </a:rPr>
              <a:t>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7"/>
          <p:cNvSpPr/>
          <p:nvPr/>
        </p:nvSpPr>
        <p:spPr>
          <a:xfrm>
            <a:off x="5724360" y="3213000"/>
            <a:ext cx="3419640" cy="2089080"/>
          </a:xfrm>
          <a:prstGeom prst="wedgeRectCallout">
            <a:avLst>
              <a:gd name="adj1" fmla="val -73370"/>
              <a:gd name="adj2" fmla="val 15300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ax+c se izračunava iterativ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Gill Sans MT"/>
              </a:rPr>
              <a:t>Minimizira se suma logaritama predviđenih vre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500" spc="-1" strike="noStrike">
                <a:solidFill>
                  <a:srgbClr val="572314"/>
                </a:solidFill>
                <a:latin typeface="Gill Sans MT"/>
              </a:rPr>
              <a:t>Jednačina logaritamske regresije</a:t>
            </a:r>
            <a:endParaRPr b="0" lang="en-US" sz="35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86" name="Object 13"/>
          <p:cNvGraphicFramePr/>
          <p:nvPr/>
        </p:nvGraphicFramePr>
        <p:xfrm>
          <a:off x="1052640" y="1557360"/>
          <a:ext cx="8091360" cy="47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557360"/>
                    <a:ext cx="8091360" cy="47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400" y="12139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lementacija log. reg. model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	http://StatPages.org/logistic.html /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mplementacija log. reg. modela: </a:t>
            </a:r>
            <a:r>
              <a:rPr b="0" lang="hr-HR" sz="2200" spc="-1" strike="noStrike">
                <a:solidFill>
                  <a:srgbClr val="000000"/>
                </a:solidFill>
                <a:latin typeface="Gill Sans MT"/>
              </a:rPr>
              <a:t>http://members.aol.com/johnp71/logistic.htm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AutoShape 4"/>
          <p:cNvSpPr/>
          <p:nvPr/>
        </p:nvSpPr>
        <p:spPr>
          <a:xfrm>
            <a:off x="611280" y="1268280"/>
            <a:ext cx="6840360" cy="3529080"/>
          </a:xfrm>
          <a:prstGeom prst="wedgeRectCallout">
            <a:avLst>
              <a:gd name="adj1" fmla="val 28856"/>
              <a:gd name="adj2" fmla="val 68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anja =35 000 mese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ig. kred.kart =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l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odina =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</a:t>
            </a:r>
            <a:r>
              <a:rPr b="0" lang="hr-HR" sz="2800" spc="-1" strike="noStrike" baseline="30000">
                <a:solidFill>
                  <a:srgbClr val="000000"/>
                </a:solidFill>
                <a:latin typeface="Gill Sans MT"/>
              </a:rPr>
              <a:t>ax+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/(1+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ax+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=0.999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verovatni kandidat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ovu promociju živ.os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300" spc="-1" strike="noStrike">
                <a:solidFill>
                  <a:srgbClr val="572314"/>
                </a:solidFill>
                <a:latin typeface="Gill Sans MT"/>
              </a:rPr>
              <a:t>Primer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enom logaritamskog regresionog modela na bazu podataka o komitetima vlasnicima kred. kartica je dobijena jednačina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i="1" lang="hr-HR" sz="3200" spc="-1" strike="noStrike">
                <a:solidFill>
                  <a:srgbClr val="000000"/>
                </a:solidFill>
                <a:latin typeface="Gill Sans MT"/>
              </a:rPr>
              <a:t>ax+c = 0.0001 Primanja+19.827 Osig.k.k. –    - 8.314 Pol – 0.415 Godine + 17.69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veći uticaj: Osig.k.k i po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Mali uticaj: Lična primanj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J-nu možemo primeniti na nove komiten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611280" y="1268280"/>
            <a:ext cx="6840360" cy="3529080"/>
          </a:xfrm>
          <a:prstGeom prst="wedgeRectCallout">
            <a:avLst>
              <a:gd name="adj1" fmla="val 28856"/>
              <a:gd name="adj2" fmla="val 68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rimanja: 35 000 meseč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Osig. kred.kart: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Pol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Godina: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=0.999 </a:t>
            </a:r>
            <a:r>
              <a:rPr b="0" lang="hr-H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verovatni kandidat 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                         </a:t>
            </a: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novu promociju živ.os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 flipV="1">
            <a:off x="2843280" y="1844280"/>
            <a:ext cx="43164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141000" y="16430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Gill Sans MT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7"/>
          <p:cNvSpPr/>
          <p:nvPr/>
        </p:nvSpPr>
        <p:spPr>
          <a:xfrm flipV="1">
            <a:off x="1571760" y="3428640"/>
            <a:ext cx="576000" cy="43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1280880" y="314316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0000"/>
                </a:solidFill>
                <a:latin typeface="Gill Sans MT"/>
              </a:rPr>
              <a:t>0.0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"/>
          <p:cNvSpPr/>
          <p:nvPr/>
        </p:nvSpPr>
        <p:spPr>
          <a:xfrm flipV="1">
            <a:off x="1332000" y="2205000"/>
            <a:ext cx="28872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1502280" y="20718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1"/>
          <p:cNvSpPr/>
          <p:nvPr/>
        </p:nvSpPr>
        <p:spPr>
          <a:xfrm flipV="1">
            <a:off x="2571840" y="3642840"/>
            <a:ext cx="2571840" cy="71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3862800" y="3036960"/>
            <a:ext cx="17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Gill Sans MT"/>
              </a:rPr>
              <a:t>slab iz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6:57:24Z</dcterms:created>
  <dc:creator>Zita</dc:creator>
  <dc:description/>
  <dc:language>en-US</dc:language>
  <cp:lastModifiedBy>Zita Bosnjak</cp:lastModifiedBy>
  <dcterms:modified xsi:type="dcterms:W3CDTF">2018-03-13T11:53:43Z</dcterms:modified>
  <cp:revision>34</cp:revision>
  <dc:subject/>
  <dc:title>Statističke tehnike DM – logaritamska regresija</dc:title>
</cp:coreProperties>
</file>