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1A14-C580-4931-A8F6-22A8822D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1D1C-5AA6-450E-8042-E592ED09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803E-4D1D-42F7-A426-E4F5482A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F0FA-F19A-41CD-868A-D1C2100AB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A432-BAEA-4EA6-BD8F-AD8534C2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305-27FC-4100-A6C0-C2C4B541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2C5-B2E1-49D2-A5B4-6F92BCE0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D79-5263-40B5-97FD-A4586484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1143-D179-4E7A-8A97-D5C85BF4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EF2-71E6-4434-BB21-3FC94F57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1286-CDF3-4903-BE51-F2888F2B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471F-5CE1-4B38-B6D8-8625D903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B894-138A-4D7B-8F0F-A26BE41EDA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0000" t="12800" r="22200" b="20266"/>
          <a:stretch/>
        </p:blipFill>
        <p:spPr>
          <a:xfrm>
            <a:off x="457200" y="104760"/>
            <a:ext cx="838188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rcRect l="30600" t="29396" r="22800" b="19200"/>
          <a:stretch/>
        </p:blipFill>
        <p:spPr>
          <a:xfrm>
            <a:off x="0" y="22860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0T10:54:36Z</dcterms:created>
  <dc:creator>Zita Bosnjak</dc:creator>
  <dc:description/>
  <dc:language>en-US</dc:language>
  <cp:lastModifiedBy>Zita Bosnjak</cp:lastModifiedBy>
  <dcterms:modified xsi:type="dcterms:W3CDTF">2017-02-10T12:07:33Z</dcterms:modified>
  <cp:revision>2</cp:revision>
  <dc:subject/>
  <dc:title>Slide 1</dc:title>
</cp:coreProperties>
</file>