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100-E5C8-4130-B653-2FDC78B5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2CE-57AF-4800-BB79-F692A5D5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976-5B5A-4247-921B-5AD9C59DB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E7E-6188-4130-9439-088B9AC9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F10-8AF7-4371-979D-69A56F84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D9F6-5205-46BB-B65C-AB1F2A1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62F-DEBF-416D-8BD1-5432E899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CBDE-F55C-4711-B58E-F37C8F30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27B-AE42-41E5-98EA-D549E2A8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CCBA-0800-4D1F-8BF5-BB1C24F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7E3-9ADF-463E-979D-7AEB3F0B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BB7-0F41-477E-B396-94F09299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B3B4-A77C-4F12-AF15-FD48409F3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ALGORITAM K-CENTA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ALATU DATA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98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41680" y="115920"/>
            <a:ext cx="49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is podataka u elektronskoj tab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18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48320" y="4038120"/>
            <a:ext cx="3200400" cy="79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vorni podaci u EXCEL-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7506" b="56258"/>
          <a:stretch/>
        </p:blipFill>
        <p:spPr>
          <a:xfrm>
            <a:off x="0" y="685800"/>
            <a:ext cx="88390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911160"/>
            <a:ext cx="876312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6T16:12:23Z</dcterms:created>
  <dc:creator>Zita Bosnjak</dc:creator>
  <dc:description/>
  <dc:language>en-US</dc:language>
  <cp:lastModifiedBy>Zita Bosnjak</cp:lastModifiedBy>
  <dcterms:modified xsi:type="dcterms:W3CDTF">2007-04-03T07:23:10Z</dcterms:modified>
  <cp:revision>6</cp:revision>
  <dc:subject/>
  <dc:title>Slide 1</dc:title>
</cp:coreProperties>
</file>