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AC7-7978-42F0-815B-81B02A86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8CE-BB61-4AB7-9D4B-40BE54F7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286-B9BB-4607-9CB4-08150CA1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9E08-8017-4C0D-949B-D6769268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B4B0-7336-4D7E-8B84-91035B6B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EAB8-9484-4214-B059-D354EDA7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BFF4-D826-4975-9F8F-9A24E450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1342-54BE-40B6-A8B8-149051B2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C197-6EE5-4B31-8D18-F0EA933F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05EA-6651-47D8-BC3E-280C925E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FF0F-A6EA-498E-AA07-81E1CC0B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FAE3-5E8B-4CFF-AE87-3D15F1A0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F755-83B7-4CAB-ADC4-0B3FC078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47BB-4507-443F-A48E-981E1807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846D-8EDF-4CB0-AA73-CAC54433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524E-F33A-43A2-9D7B-AF543E40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A0AA6-EAD2-4EF3-8C5C-B0D1F0BB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4DE7-EA1B-4B73-BE77-B82FD6B2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E5A-D3BE-4C00-9B74-CFF22DD1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D2C-425D-4175-A9CC-7D170A24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ABF4-2C3F-4599-ADDE-C025363A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4F12-D1AD-4DC2-A037-67479DF8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EFB8-53AB-4FFB-AC43-C314CC0C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93D5-C4EC-4B16-A46F-37945B73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020C-1CC4-4C1C-878B-F48C824254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232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232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2320" cy="11232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23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232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232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232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232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FE7A-46AF-45E5-9400-3CBD84F780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sychstat.missouristate.edu/introbook/fdist.htm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330066"/>
                </a:solidFill>
                <a:latin typeface="Arial"/>
              </a:rPr>
              <a:t>Statističke tehnike DM – linearna regresij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etode i tehnike analize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f. dr Zita Bošnja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Podaci za analizu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1719360"/>
          <a:ext cx="8229600" cy="47545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vrš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celar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az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redn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47960" y="3123720"/>
            <a:ext cx="3429000" cy="134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900" spc="-1" strike="noStrike">
                <a:solidFill>
                  <a:srgbClr val="330066"/>
                </a:solidFill>
                <a:latin typeface="Arial"/>
              </a:rPr>
              <a:t>Rezultat LINEST f-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Izlaz regresione anal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oeficijente čitamo direktno iz 1.reda tabele, u obrnutom redosledu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-234.2371645      2553.211    12529.77    27.64139  52317.8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Vrednost=27.64 Površina+12529.77 Kancelarija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+2553.21 Ulaza -234.24 Starost + 52317.8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Koliko su j-ne tačn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Za prostu linearnu regresiju crtamo 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scatterplot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dijagra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Za višestruku gledamo statistiku iz tabe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Dijagram poste lin. regresi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dnos procenjene vrednosti i površin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7"/>
          <p:cNvGraphicFramePr/>
          <p:nvPr/>
        </p:nvGraphicFramePr>
        <p:xfrm>
          <a:off x="609480" y="2133720"/>
          <a:ext cx="7880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133720"/>
                    <a:ext cx="7880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330066"/>
                </a:solidFill>
                <a:latin typeface="Arial"/>
              </a:rPr>
              <a:t>Statistički parametri efikasnosti</a:t>
            </a: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1.parmetar u III redu: koeficijent određenosti (determinisanost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ko je 1, nema razlike između procenjene i stvarne vrednost 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 primeru 0.9967 ukazuje na visoku korelaciju, ali je računat nad primerima za obučavanje, a ne na test primerima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2. parametar u III redu: standardna greška procene zavisne promenlj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330066"/>
                </a:solidFill>
                <a:latin typeface="Arial"/>
              </a:rPr>
              <a:t>Statistički parametri efikasnosti</a:t>
            </a: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1.parmetar u IV redu: F statistika – signifikantnost koeficijenta determinac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ne-tailed F satistics z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v1= br. nezavisnih pro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v2= uk. br. primera za učenje - uk.br. pro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1284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U primeru: v1=4, v2=11-5=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2. parametar u IV redu je v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hr-HR" sz="2600" spc="-1" strike="noStrike" baseline="-25000">
                <a:solidFill>
                  <a:srgbClr val="000000"/>
                </a:solidFill>
                <a:latin typeface="Arial"/>
              </a:rPr>
              <a:t>0.05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(4,6)=4.53 </a:t>
            </a:r>
            <a:r>
              <a:rPr b="1" lang="hr-HR" sz="3000" spc="-1" strike="noStrike">
                <a:solidFill>
                  <a:srgbClr val="7e9ce8"/>
                </a:solidFill>
                <a:latin typeface="Symbol"/>
                <a:ea typeface="Symbol"/>
              </a:rPr>
              <a:t>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459.75 </a:t>
            </a:r>
            <a:r>
              <a:rPr b="0" lang="hr-HR" sz="2600" spc="-1" strike="noStrike">
                <a:solidFill>
                  <a:srgbClr val="7e9ce8"/>
                </a:solidFill>
                <a:latin typeface="Arial"/>
              </a:rPr>
              <a:t>signifikantno je </a:t>
            </a:r>
            <a:r>
              <a:rPr b="0" lang="hr-HR" sz="2600" spc="-1" strike="noStrike">
                <a:solidFill>
                  <a:srgbClr val="7e9ce8"/>
                </a:solidFill>
                <a:latin typeface="Symbol"/>
                <a:ea typeface="Symbol"/>
              </a:rPr>
              <a:t></a:t>
            </a:r>
            <a:r>
              <a:rPr b="0" lang="hr-HR" sz="2600" spc="-1" strike="noStrike">
                <a:solidFill>
                  <a:srgbClr val="7e9ce8"/>
                </a:solidFill>
                <a:latin typeface="Arial"/>
              </a:rPr>
              <a:t> regresiona jednačina tačno predviđa vred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Na </a:t>
            </a:r>
            <a:r>
              <a:rPr b="0" lang="en-US" sz="2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://www.psychstat.missouristate.edu/introbook/fdist.htm</a:t>
            </a:r>
            <a:r>
              <a:rPr b="0" lang="sr-Latn-CS" sz="2600" spc="-1" strike="noStrike">
                <a:solidFill>
                  <a:srgbClr val="7e9ce8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7e9ce8"/>
                </a:solidFill>
                <a:latin typeface="Arial"/>
              </a:rPr>
              <a:t>    </a:t>
            </a:r>
            <a:r>
              <a:rPr b="0" lang="sr-Latn-CS" sz="2600" spc="-1" strike="noStrike">
                <a:solidFill>
                  <a:srgbClr val="7e9ce8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7e9ce8"/>
                </a:solidFill>
                <a:latin typeface="Arial"/>
              </a:rPr>
              <a:t>e mogu prona</a:t>
            </a:r>
            <a:r>
              <a:rPr b="0" lang="sr-Latn-CS" sz="2600" spc="-1" strike="noStrike">
                <a:solidFill>
                  <a:srgbClr val="7e9ce8"/>
                </a:solidFill>
                <a:latin typeface="Arial"/>
              </a:rPr>
              <a:t>ći kritične vrednosti F statistike (</a:t>
            </a:r>
            <a:r>
              <a:rPr b="0" lang="sr-Latn-CS" sz="2000" spc="-1" strike="noStrike">
                <a:solidFill>
                  <a:srgbClr val="7e9ce8"/>
                </a:solidFill>
                <a:latin typeface="Arial"/>
              </a:rPr>
              <a:t>zadamo v1 i v2 i dobijemo rezultat za 0.05 i 0.01 signifikantnost</a:t>
            </a:r>
            <a:r>
              <a:rPr b="0" lang="sr-Latn-CS" sz="2600" spc="-1" strike="noStrike">
                <a:solidFill>
                  <a:srgbClr val="7e9ce8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500" spc="-1" strike="noStrike">
                <a:solidFill>
                  <a:srgbClr val="330066"/>
                </a:solidFill>
                <a:latin typeface="Arial"/>
              </a:rPr>
              <a:t>Statistički parametri efikasnosti</a:t>
            </a: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armetri u II redu: korisnost pojedinih nezavisnih prom. u predviđanju vrednosti zavisne promenlj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imer prime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kstenzija linije trend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918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tpostavimo da se organizacija bavi administriranjem računarskih sistema kroz korisničku podršku (tzv. help-desk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918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tpostavimo da prolazimo kroz period rasta, te je potrebno anticipirati koliki personal u help-desku da obezbedim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9188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 poslednjih 10 meseci je organizacija narasla sa 30 na 300 zaposleni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91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reiranje modela podata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980640"/>
            <a:ext cx="7632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tpostavimo da posedujemo memorisane podatke o poslovanju u poslednjih 40 nedel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na osoba može da obradi 20-tak zahteva za podrškom nedeljno.  40. nedelje - 10 osob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2712960"/>
          <a:ext cx="9144000" cy="40798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de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hte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de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hte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de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hte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de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hte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izuelizacija podata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Chart 4" descr=""/>
          <p:cNvPicPr/>
          <p:nvPr/>
        </p:nvPicPr>
        <p:blipFill>
          <a:blip r:embed="rId1"/>
          <a:stretch/>
        </p:blipFill>
        <p:spPr>
          <a:xfrm>
            <a:off x="244440" y="1481040"/>
            <a:ext cx="7504200" cy="3829320"/>
          </a:xfrm>
          <a:prstGeom prst="rect">
            <a:avLst/>
          </a:prstGeom>
          <a:ln w="0">
            <a:noFill/>
          </a:ln>
        </p:spPr>
      </p:pic>
      <p:sp>
        <p:nvSpPr>
          <p:cNvPr id="201" name="TextBox 5"/>
          <p:cNvSpPr/>
          <p:nvPr/>
        </p:nvSpPr>
        <p:spPr>
          <a:xfrm>
            <a:off x="250920" y="5288040"/>
            <a:ext cx="48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osa: nedel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osa: broj obrađenih zaht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6"/>
          <p:cNvSpPr/>
          <p:nvPr/>
        </p:nvSpPr>
        <p:spPr>
          <a:xfrm>
            <a:off x="5364000" y="4076640"/>
            <a:ext cx="3780000" cy="2654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jući u vidu vreme za prijem novih radnika i njihovu obuku, potreban je alat za predviđanje potražnje u narednom periodu (npr. 20 nedelja unapre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8"/>
          <p:cNvSpPr/>
          <p:nvPr/>
        </p:nvSpPr>
        <p:spPr>
          <a:xfrm>
            <a:off x="4932360" y="1773360"/>
            <a:ext cx="1727280" cy="914400"/>
          </a:xfrm>
          <a:prstGeom prst="ellipse">
            <a:avLst/>
          </a:prstGeom>
          <a:solidFill>
            <a:srgbClr val="cccc00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I Analiza linearnom regresijo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tatistička regresija je tehnika </a:t>
            </a:r>
            <a:r>
              <a:rPr b="0" lang="hr-HR" sz="3000" spc="-1" strike="noStrike">
                <a:solidFill>
                  <a:srgbClr val="7e9ce8"/>
                </a:solidFill>
                <a:latin typeface="Arial"/>
              </a:rPr>
              <a:t>nadgledanog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učen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eneralizuje skup ulaznih </a:t>
            </a:r>
            <a:r>
              <a:rPr b="0" lang="hr-HR" sz="3000" spc="-1" strike="noStrike">
                <a:solidFill>
                  <a:srgbClr val="7e9ce8"/>
                </a:solidFill>
                <a:latin typeface="Arial"/>
              </a:rPr>
              <a:t>numeričkih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podataka pomoću matematčke  jednačine koja stavlja u odnos jedan ili više ulaznih atributa sa izlazni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7e9ce8"/>
                </a:solidFill>
                <a:latin typeface="Arial"/>
              </a:rPr>
              <a:t>Linearnom regresijom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modelujemo varijacije zavisne promenljive  kao linearnu kombinaciju jedne ili više nezavisnih promenljivih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zultat linearne regresije u EXCEL-u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rcRect l="0" t="0" r="42081" b="13858"/>
          <a:stretch/>
        </p:blipFill>
        <p:spPr>
          <a:xfrm>
            <a:off x="0" y="1176480"/>
            <a:ext cx="6519960" cy="56815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3"/>
          <p:cNvSpPr/>
          <p:nvPr/>
        </p:nvSpPr>
        <p:spPr>
          <a:xfrm>
            <a:off x="4738680" y="4653000"/>
            <a:ext cx="432576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0,642 + 5,086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d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own Arrow 4"/>
          <p:cNvSpPr/>
          <p:nvPr/>
        </p:nvSpPr>
        <p:spPr>
          <a:xfrm rot="5400000">
            <a:off x="3827160" y="4317840"/>
            <a:ext cx="506520" cy="117648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50920" y="4653000"/>
            <a:ext cx="3241440" cy="431640"/>
          </a:xfrm>
          <a:prstGeom prst="rect">
            <a:avLst/>
          </a:prstGeom>
          <a:noFill/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zultat linearne regresije u EXCEL-u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rcRect l="0" t="0" r="42081" b="13858"/>
          <a:stretch/>
        </p:blipFill>
        <p:spPr>
          <a:xfrm>
            <a:off x="0" y="1176480"/>
            <a:ext cx="6519960" cy="5681520"/>
          </a:xfrm>
          <a:prstGeom prst="rect">
            <a:avLst/>
          </a:prstGeom>
          <a:ln w="0">
            <a:noFill/>
          </a:ln>
        </p:spPr>
      </p:pic>
      <p:sp>
        <p:nvSpPr>
          <p:cNvPr id="211" name="Down Arrow 4"/>
          <p:cNvSpPr/>
          <p:nvPr/>
        </p:nvSpPr>
        <p:spPr>
          <a:xfrm rot="5400000">
            <a:off x="3828240" y="4172400"/>
            <a:ext cx="433080" cy="1105200"/>
          </a:xfrm>
          <a:prstGeom prst="downArrow">
            <a:avLst>
              <a:gd name="adj1" fmla="val 50000"/>
              <a:gd name="adj2" fmla="val 50047"/>
            </a:avLst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4506840" y="4508640"/>
            <a:ext cx="4325760" cy="52056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 0,642 + 5,086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d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250920" y="4653000"/>
            <a:ext cx="3241440" cy="431640"/>
          </a:xfrm>
          <a:prstGeom prst="rect">
            <a:avLst/>
          </a:prstGeom>
          <a:noFill/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24000" y="5373720"/>
            <a:ext cx="1295280" cy="43164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3733920" y="5761080"/>
            <a:ext cx="491112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liko je model tačan? (98%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9"/>
          <p:cNvCxnSpPr/>
          <p:nvPr/>
        </p:nvCxnSpPr>
        <p:spPr>
          <a:xfrm flipH="1" flipV="1">
            <a:off x="1476000" y="5804640"/>
            <a:ext cx="504000" cy="288360"/>
          </a:xfrm>
          <a:prstGeom prst="straightConnector1">
            <a:avLst/>
          </a:prstGeom>
          <a:ln w="60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7" name="TextBox 12"/>
          <p:cNvSpPr/>
          <p:nvPr/>
        </p:nvSpPr>
        <p:spPr>
          <a:xfrm>
            <a:off x="4308840" y="5157720"/>
            <a:ext cx="457740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andardna greška proc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Straight Arrow Connector 13"/>
          <p:cNvCxnSpPr>
            <a:stCxn id="217" idx="1"/>
          </p:cNvCxnSpPr>
          <p:nvPr/>
        </p:nvCxnSpPr>
        <p:spPr>
          <a:xfrm flipH="1">
            <a:off x="3491640" y="5418000"/>
            <a:ext cx="793080" cy="99360"/>
          </a:xfrm>
          <a:prstGeom prst="straightConnector1">
            <a:avLst/>
          </a:prstGeom>
          <a:ln w="604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19" name="Rectangle 18"/>
          <p:cNvSpPr/>
          <p:nvPr/>
        </p:nvSpPr>
        <p:spPr>
          <a:xfrm>
            <a:off x="2138400" y="5359320"/>
            <a:ext cx="1366920" cy="43200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27"/>
          <p:cNvSpPr/>
          <p:nvPr/>
        </p:nvSpPr>
        <p:spPr>
          <a:xfrm>
            <a:off x="1969920" y="6091200"/>
            <a:ext cx="1800360" cy="0"/>
          </a:xfrm>
          <a:prstGeom prst="line">
            <a:avLst/>
          </a:prstGeom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6"/>
          <p:cNvSpPr/>
          <p:nvPr/>
        </p:nvSpPr>
        <p:spPr>
          <a:xfrm>
            <a:off x="2124000" y="6165720"/>
            <a:ext cx="1368360" cy="358920"/>
          </a:xfrm>
          <a:prstGeom prst="rect">
            <a:avLst/>
          </a:prstGeom>
          <a:noFill/>
          <a:ln w="41400">
            <a:solidFill>
              <a:srgbClr val="850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7"/>
          <p:cNvSpPr/>
          <p:nvPr/>
        </p:nvSpPr>
        <p:spPr>
          <a:xfrm>
            <a:off x="4450320" y="6329520"/>
            <a:ext cx="4240800" cy="520560"/>
          </a:xfrm>
          <a:prstGeom prst="rect">
            <a:avLst/>
          </a:prstGeom>
          <a:solidFill>
            <a:srgbClr val="850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kupna kvadratna greš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9"/>
          <p:cNvCxnSpPr/>
          <p:nvPr/>
        </p:nvCxnSpPr>
        <p:spPr>
          <a:xfrm flipH="1" flipV="1">
            <a:off x="3563640" y="6453000"/>
            <a:ext cx="792720" cy="144720"/>
          </a:xfrm>
          <a:prstGeom prst="straightConnector1">
            <a:avLst/>
          </a:prstGeom>
          <a:ln w="54000">
            <a:solidFill>
              <a:srgbClr val="850a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5"/>
          <p:cNvSpPr/>
          <p:nvPr/>
        </p:nvSpPr>
        <p:spPr>
          <a:xfrm>
            <a:off x="642960" y="1857240"/>
            <a:ext cx="4572000" cy="3571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kupna kvadratna gre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226" name="Straight Arrow Connector 2"/>
          <p:cNvCxnSpPr/>
          <p:nvPr/>
        </p:nvCxnSpPr>
        <p:spPr>
          <a:xfrm flipV="1">
            <a:off x="1285560" y="2428560"/>
            <a:ext cx="1080" cy="257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Straight Arrow Connector 3"/>
          <p:cNvCxnSpPr/>
          <p:nvPr/>
        </p:nvCxnSpPr>
        <p:spPr>
          <a:xfrm>
            <a:off x="1285920" y="5000400"/>
            <a:ext cx="364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8" name="TextBox 4"/>
          <p:cNvSpPr/>
          <p:nvPr/>
        </p:nvSpPr>
        <p:spPr>
          <a:xfrm>
            <a:off x="1714320" y="392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264276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214272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7"/>
          <p:cNvSpPr/>
          <p:nvPr/>
        </p:nvSpPr>
        <p:spPr>
          <a:xfrm>
            <a:off x="1928520" y="42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29998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9"/>
          <p:cNvSpPr/>
          <p:nvPr/>
        </p:nvSpPr>
        <p:spPr>
          <a:xfrm>
            <a:off x="2385720" y="424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0"/>
          <p:cNvSpPr/>
          <p:nvPr/>
        </p:nvSpPr>
        <p:spPr>
          <a:xfrm>
            <a:off x="264276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3285720" y="3000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3487320" y="355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278568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14"/>
          <p:cNvSpPr/>
          <p:nvPr/>
        </p:nvSpPr>
        <p:spPr>
          <a:xfrm flipV="1">
            <a:off x="928800" y="3214800"/>
            <a:ext cx="3286080" cy="164304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15"/>
          <p:cNvCxnSpPr/>
          <p:nvPr/>
        </p:nvCxnSpPr>
        <p:spPr>
          <a:xfrm>
            <a:off x="1856880" y="4143240"/>
            <a:ext cx="1080" cy="2865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0" name="Straight Arrow Connector 16"/>
          <p:cNvCxnSpPr/>
          <p:nvPr/>
        </p:nvCxnSpPr>
        <p:spPr>
          <a:xfrm>
            <a:off x="2285640" y="3714840"/>
            <a:ext cx="1080" cy="4291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1" name="Straight Arrow Connector 17"/>
          <p:cNvCxnSpPr/>
          <p:nvPr/>
        </p:nvCxnSpPr>
        <p:spPr>
          <a:xfrm flipV="1">
            <a:off x="3143160" y="3714120"/>
            <a:ext cx="23040" cy="5007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2" name="Straight Arrow Connector 18"/>
          <p:cNvCxnSpPr/>
          <p:nvPr/>
        </p:nvCxnSpPr>
        <p:spPr>
          <a:xfrm>
            <a:off x="2928600" y="3471480"/>
            <a:ext cx="20880" cy="3290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3" name="Straight Arrow Connector 19"/>
          <p:cNvCxnSpPr/>
          <p:nvPr/>
        </p:nvCxnSpPr>
        <p:spPr>
          <a:xfrm>
            <a:off x="3428640" y="3285720"/>
            <a:ext cx="20880" cy="3279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4" name="Straight Arrow Connector 20"/>
          <p:cNvCxnSpPr/>
          <p:nvPr/>
        </p:nvCxnSpPr>
        <p:spPr>
          <a:xfrm flipV="1">
            <a:off x="2786040" y="3928680"/>
            <a:ext cx="23040" cy="2865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5" name="Straight Arrow Connector 21"/>
          <p:cNvCxnSpPr/>
          <p:nvPr/>
        </p:nvCxnSpPr>
        <p:spPr>
          <a:xfrm flipV="1">
            <a:off x="2500200" y="4071600"/>
            <a:ext cx="13680" cy="3578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6" name="Straight Arrow Connector 22"/>
          <p:cNvCxnSpPr>
            <a:endCxn id="229" idx="2"/>
          </p:cNvCxnSpPr>
          <p:nvPr/>
        </p:nvCxnSpPr>
        <p:spPr>
          <a:xfrm>
            <a:off x="2785680" y="3786120"/>
            <a:ext cx="11880" cy="1558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7" name="Straight Arrow Connector 23"/>
          <p:cNvCxnSpPr>
            <a:endCxn id="231" idx="0"/>
          </p:cNvCxnSpPr>
          <p:nvPr/>
        </p:nvCxnSpPr>
        <p:spPr>
          <a:xfrm flipV="1">
            <a:off x="2071440" y="4214160"/>
            <a:ext cx="11880" cy="2149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48" name="Straight Arrow Connector 24"/>
          <p:cNvCxnSpPr/>
          <p:nvPr/>
        </p:nvCxnSpPr>
        <p:spPr>
          <a:xfrm flipH="1" flipV="1">
            <a:off x="3630240" y="3543120"/>
            <a:ext cx="10080" cy="2260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49" name="TextBox 38"/>
          <p:cNvSpPr/>
          <p:nvPr/>
        </p:nvSpPr>
        <p:spPr>
          <a:xfrm>
            <a:off x="13608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9"/>
          <p:cNvSpPr/>
          <p:nvPr/>
        </p:nvSpPr>
        <p:spPr>
          <a:xfrm>
            <a:off x="186084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40"/>
          <p:cNvSpPr/>
          <p:nvPr/>
        </p:nvSpPr>
        <p:spPr>
          <a:xfrm>
            <a:off x="1860840" y="3643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1"/>
          <p:cNvSpPr/>
          <p:nvPr/>
        </p:nvSpPr>
        <p:spPr>
          <a:xfrm>
            <a:off x="3643200" y="35002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2"/>
          <p:cNvSpPr/>
          <p:nvPr/>
        </p:nvSpPr>
        <p:spPr>
          <a:xfrm>
            <a:off x="3089880" y="321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4"/>
          <p:cNvSpPr/>
          <p:nvPr/>
        </p:nvSpPr>
        <p:spPr>
          <a:xfrm>
            <a:off x="5286240" y="2643120"/>
            <a:ext cx="37148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+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+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+...+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5"/>
          <p:cNvSpPr/>
          <p:nvPr/>
        </p:nvSpPr>
        <p:spPr>
          <a:xfrm>
            <a:off x="642960" y="1857240"/>
            <a:ext cx="4572000" cy="3571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kupna kvadratna gre</a:t>
            </a: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š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cxnSp>
        <p:nvCxnSpPr>
          <p:cNvPr id="257" name="Straight Arrow Connector 2"/>
          <p:cNvCxnSpPr/>
          <p:nvPr/>
        </p:nvCxnSpPr>
        <p:spPr>
          <a:xfrm flipV="1">
            <a:off x="1285560" y="2428560"/>
            <a:ext cx="1080" cy="257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Straight Arrow Connector 3"/>
          <p:cNvCxnSpPr/>
          <p:nvPr/>
        </p:nvCxnSpPr>
        <p:spPr>
          <a:xfrm>
            <a:off x="1285920" y="5000400"/>
            <a:ext cx="364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9" name="TextBox 4"/>
          <p:cNvSpPr/>
          <p:nvPr/>
        </p:nvSpPr>
        <p:spPr>
          <a:xfrm>
            <a:off x="1714320" y="392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2642760" y="3571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2142720" y="35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1928520" y="4214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8"/>
          <p:cNvSpPr/>
          <p:nvPr/>
        </p:nvSpPr>
        <p:spPr>
          <a:xfrm>
            <a:off x="299988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2385720" y="424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0"/>
          <p:cNvSpPr/>
          <p:nvPr/>
        </p:nvSpPr>
        <p:spPr>
          <a:xfrm>
            <a:off x="2642760" y="400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3285720" y="3000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2"/>
          <p:cNvSpPr/>
          <p:nvPr/>
        </p:nvSpPr>
        <p:spPr>
          <a:xfrm>
            <a:off x="3487320" y="355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2785680" y="32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4"/>
          <p:cNvSpPr/>
          <p:nvPr/>
        </p:nvSpPr>
        <p:spPr>
          <a:xfrm flipV="1">
            <a:off x="928800" y="3214800"/>
            <a:ext cx="3286080" cy="1643040"/>
          </a:xfrm>
          <a:prstGeom prst="line">
            <a:avLst/>
          </a:prstGeom>
          <a:ln w="1908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15"/>
          <p:cNvCxnSpPr/>
          <p:nvPr/>
        </p:nvCxnSpPr>
        <p:spPr>
          <a:xfrm>
            <a:off x="1856880" y="4143240"/>
            <a:ext cx="1080" cy="2865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1" name="Straight Arrow Connector 16"/>
          <p:cNvCxnSpPr/>
          <p:nvPr/>
        </p:nvCxnSpPr>
        <p:spPr>
          <a:xfrm>
            <a:off x="2285640" y="3714840"/>
            <a:ext cx="1080" cy="4291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2" name="Straight Arrow Connector 17"/>
          <p:cNvCxnSpPr/>
          <p:nvPr/>
        </p:nvCxnSpPr>
        <p:spPr>
          <a:xfrm flipV="1">
            <a:off x="3143160" y="3714120"/>
            <a:ext cx="23040" cy="5007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3" name="Straight Arrow Connector 18"/>
          <p:cNvCxnSpPr/>
          <p:nvPr/>
        </p:nvCxnSpPr>
        <p:spPr>
          <a:xfrm>
            <a:off x="2928600" y="3471480"/>
            <a:ext cx="20880" cy="3290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4" name="Straight Arrow Connector 19"/>
          <p:cNvCxnSpPr/>
          <p:nvPr/>
        </p:nvCxnSpPr>
        <p:spPr>
          <a:xfrm>
            <a:off x="3428640" y="3285720"/>
            <a:ext cx="20880" cy="3279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5" name="Straight Arrow Connector 20"/>
          <p:cNvCxnSpPr/>
          <p:nvPr/>
        </p:nvCxnSpPr>
        <p:spPr>
          <a:xfrm flipV="1">
            <a:off x="2786040" y="3928680"/>
            <a:ext cx="23040" cy="28656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6" name="Straight Arrow Connector 21"/>
          <p:cNvCxnSpPr/>
          <p:nvPr/>
        </p:nvCxnSpPr>
        <p:spPr>
          <a:xfrm flipV="1">
            <a:off x="2500200" y="4071600"/>
            <a:ext cx="13680" cy="35784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7" name="Straight Arrow Connector 22"/>
          <p:cNvCxnSpPr>
            <a:endCxn id="260" idx="2"/>
          </p:cNvCxnSpPr>
          <p:nvPr/>
        </p:nvCxnSpPr>
        <p:spPr>
          <a:xfrm>
            <a:off x="2785680" y="3786120"/>
            <a:ext cx="11880" cy="1558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8" name="Straight Arrow Connector 23"/>
          <p:cNvCxnSpPr>
            <a:endCxn id="262" idx="0"/>
          </p:cNvCxnSpPr>
          <p:nvPr/>
        </p:nvCxnSpPr>
        <p:spPr>
          <a:xfrm flipV="1">
            <a:off x="2071440" y="4214160"/>
            <a:ext cx="11880" cy="21492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cxnSp>
        <p:nvCxnSpPr>
          <p:cNvPr id="279" name="Straight Arrow Connector 24"/>
          <p:cNvCxnSpPr/>
          <p:nvPr/>
        </p:nvCxnSpPr>
        <p:spPr>
          <a:xfrm flipH="1" flipV="1">
            <a:off x="3630240" y="3543120"/>
            <a:ext cx="10080" cy="226080"/>
          </a:xfrm>
          <a:prstGeom prst="straightConnector1">
            <a:avLst/>
          </a:prstGeom>
          <a:ln w="9360">
            <a:solidFill>
              <a:srgbClr val="cccc00"/>
            </a:solidFill>
            <a:miter/>
            <a:tailEnd len="med" type="triangle" w="med"/>
          </a:ln>
        </p:spPr>
      </p:cxnSp>
      <p:sp>
        <p:nvSpPr>
          <p:cNvPr id="280" name="TextBox 38"/>
          <p:cNvSpPr/>
          <p:nvPr/>
        </p:nvSpPr>
        <p:spPr>
          <a:xfrm>
            <a:off x="1360800" y="3857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39"/>
          <p:cNvSpPr/>
          <p:nvPr/>
        </p:nvSpPr>
        <p:spPr>
          <a:xfrm>
            <a:off x="1860840" y="4429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40"/>
          <p:cNvSpPr/>
          <p:nvPr/>
        </p:nvSpPr>
        <p:spPr>
          <a:xfrm>
            <a:off x="1860840" y="3643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1"/>
          <p:cNvSpPr/>
          <p:nvPr/>
        </p:nvSpPr>
        <p:spPr>
          <a:xfrm>
            <a:off x="3643200" y="35002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42"/>
          <p:cNvSpPr/>
          <p:nvPr/>
        </p:nvSpPr>
        <p:spPr>
          <a:xfrm>
            <a:off x="3089880" y="321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47"/>
                </a:solidFill>
                <a:latin typeface="Arial"/>
              </a:rPr>
              <a:t>d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4"/>
          <p:cNvSpPr/>
          <p:nvPr/>
        </p:nvSpPr>
        <p:spPr>
          <a:xfrm>
            <a:off x="5286240" y="2643120"/>
            <a:ext cx="371484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+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+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+...+d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32"/>
          <p:cNvGrpSpPr/>
          <p:nvPr/>
        </p:nvGrpSpPr>
        <p:grpSpPr>
          <a:xfrm>
            <a:off x="1071720" y="2286000"/>
            <a:ext cx="2786040" cy="2143080"/>
            <a:chOff x="1071720" y="2286000"/>
            <a:chExt cx="2786040" cy="2143080"/>
          </a:xfrm>
        </p:grpSpPr>
        <p:sp>
          <p:nvSpPr>
            <p:cNvPr id="287" name="Straight Connector 33"/>
            <p:cNvSpPr/>
            <p:nvPr/>
          </p:nvSpPr>
          <p:spPr>
            <a:xfrm flipV="1">
              <a:off x="1071720" y="2286000"/>
              <a:ext cx="2786040" cy="185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34"/>
            <p:cNvCxnSpPr/>
            <p:nvPr/>
          </p:nvCxnSpPr>
          <p:spPr>
            <a:xfrm flipV="1">
              <a:off x="1857240" y="3642840"/>
              <a:ext cx="1080" cy="42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89" name="Straight Arrow Connector 36"/>
            <p:cNvCxnSpPr/>
            <p:nvPr/>
          </p:nvCxnSpPr>
          <p:spPr>
            <a:xfrm flipV="1">
              <a:off x="2071440" y="3428640"/>
              <a:ext cx="1080" cy="9295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0" name="Straight Arrow Connector 37"/>
            <p:cNvCxnSpPr/>
            <p:nvPr/>
          </p:nvCxnSpPr>
          <p:spPr>
            <a:xfrm flipV="1">
              <a:off x="2285640" y="3357000"/>
              <a:ext cx="1080" cy="2862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1" name="Straight Arrow Connector 43"/>
            <p:cNvCxnSpPr/>
            <p:nvPr/>
          </p:nvCxnSpPr>
          <p:spPr>
            <a:xfrm flipV="1">
              <a:off x="2543040" y="3142800"/>
              <a:ext cx="1080" cy="12866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2" name="Straight Arrow Connector 45"/>
            <p:cNvCxnSpPr/>
            <p:nvPr/>
          </p:nvCxnSpPr>
          <p:spPr>
            <a:xfrm flipV="1">
              <a:off x="3214440" y="2785680"/>
              <a:ext cx="1080" cy="12866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3" name="Straight Arrow Connector 46"/>
            <p:cNvCxnSpPr/>
            <p:nvPr/>
          </p:nvCxnSpPr>
          <p:spPr>
            <a:xfrm flipV="1">
              <a:off x="3643200" y="2356920"/>
              <a:ext cx="1080" cy="12866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4" name="Straight Arrow Connector 47"/>
            <p:cNvCxnSpPr/>
            <p:nvPr/>
          </p:nvCxnSpPr>
          <p:spPr>
            <a:xfrm flipV="1">
              <a:off x="3429360" y="2499480"/>
              <a:ext cx="10080" cy="6339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5" name="Straight Arrow Connector 48"/>
            <p:cNvCxnSpPr/>
            <p:nvPr/>
          </p:nvCxnSpPr>
          <p:spPr>
            <a:xfrm flipV="1">
              <a:off x="2786040" y="3071160"/>
              <a:ext cx="1080" cy="56268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  <p:cxnSp>
        <p:nvCxnSpPr>
          <p:cNvPr id="296" name="Straight Arrow Connector 49"/>
          <p:cNvCxnSpPr/>
          <p:nvPr/>
        </p:nvCxnSpPr>
        <p:spPr>
          <a:xfrm flipV="1">
            <a:off x="2928600" y="2928240"/>
            <a:ext cx="1080" cy="4914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97" name="TextBox 50"/>
          <p:cNvSpPr/>
          <p:nvPr/>
        </p:nvSpPr>
        <p:spPr>
          <a:xfrm>
            <a:off x="5357880" y="3786120"/>
            <a:ext cx="3571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daljenost podataka (tačaka) do modela predstavljenog crvenom linijom je veća nego do modela predstavljenog žutom linij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imena modela podatak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24000" y="980640"/>
            <a:ext cx="76327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viđanje za narednih 20 nedelj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0" y="1773360"/>
          <a:ext cx="4572000" cy="40798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de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hte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de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hte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pic>
        <p:nvPicPr>
          <p:cNvPr id="301" name="Chart 5" descr=""/>
          <p:cNvPicPr/>
          <p:nvPr/>
        </p:nvPicPr>
        <p:blipFill>
          <a:blip r:embed="rId1"/>
          <a:stretch/>
        </p:blipFill>
        <p:spPr>
          <a:xfrm>
            <a:off x="4638600" y="1768320"/>
            <a:ext cx="4511880" cy="3473640"/>
          </a:xfrm>
          <a:prstGeom prst="rect">
            <a:avLst/>
          </a:prstGeom>
          <a:ln w="0">
            <a:noFill/>
          </a:ln>
        </p:spPr>
      </p:pic>
      <p:sp>
        <p:nvSpPr>
          <p:cNvPr id="302" name="TextBox 6"/>
          <p:cNvSpPr/>
          <p:nvPr/>
        </p:nvSpPr>
        <p:spPr>
          <a:xfrm>
            <a:off x="4572000" y="55166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Što dalje predviđamo u budućnost, greška predviđanja rast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cena grešk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kupna razlika predviđenih i postignutih stvarnih vrednosti – SSE (sum of squared erro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Što je model tačniji, SSE je manji. (u primeru: 1846,416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m po sebi ne govori mnogo, ali se koristi za komparaciju alternativnih model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Stablo regresi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lternativa statističkoj regresiji za numeričke vrednost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blik stabla odlučivanja sa numeričkim vrednostima listova umesto kategorički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rednost u listu je prosečna vr. izlaznog atributa svih entiteta koji su prošli tom granom stabl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ko je vrednost u listu izračunata kao linearna regresija, g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rimo o stablima modela 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(model tre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Generičko stablo mode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308" name="Group 10"/>
          <p:cNvGrpSpPr/>
          <p:nvPr/>
        </p:nvGrpSpPr>
        <p:grpSpPr>
          <a:xfrm>
            <a:off x="2964600" y="1628640"/>
            <a:ext cx="2181960" cy="1366920"/>
            <a:chOff x="2964600" y="1628640"/>
            <a:chExt cx="2181960" cy="1366920"/>
          </a:xfrm>
        </p:grpSpPr>
        <p:sp>
          <p:nvSpPr>
            <p:cNvPr id="309" name="Oval 5"/>
            <p:cNvSpPr/>
            <p:nvPr/>
          </p:nvSpPr>
          <p:spPr>
            <a:xfrm>
              <a:off x="3346560" y="1628640"/>
              <a:ext cx="1584360" cy="7192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Test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6"/>
            <p:cNvSpPr/>
            <p:nvPr/>
          </p:nvSpPr>
          <p:spPr>
            <a:xfrm flipH="1">
              <a:off x="2985840" y="2347920"/>
              <a:ext cx="1152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7"/>
            <p:cNvSpPr/>
            <p:nvPr/>
          </p:nvSpPr>
          <p:spPr>
            <a:xfrm>
              <a:off x="4138560" y="2347920"/>
              <a:ext cx="1008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2964600" y="2292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9"/>
            <p:cNvSpPr/>
            <p:nvPr/>
          </p:nvSpPr>
          <p:spPr>
            <a:xfrm>
              <a:off x="4691160" y="229248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11"/>
          <p:cNvGrpSpPr/>
          <p:nvPr/>
        </p:nvGrpSpPr>
        <p:grpSpPr>
          <a:xfrm>
            <a:off x="1616760" y="2995560"/>
            <a:ext cx="2181960" cy="1366920"/>
            <a:chOff x="1616760" y="2995560"/>
            <a:chExt cx="2181960" cy="1366920"/>
          </a:xfrm>
        </p:grpSpPr>
        <p:sp>
          <p:nvSpPr>
            <p:cNvPr id="315" name="Oval 12"/>
            <p:cNvSpPr/>
            <p:nvPr/>
          </p:nvSpPr>
          <p:spPr>
            <a:xfrm>
              <a:off x="1998720" y="2995560"/>
              <a:ext cx="1584360" cy="7192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Tes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3"/>
            <p:cNvSpPr/>
            <p:nvPr/>
          </p:nvSpPr>
          <p:spPr>
            <a:xfrm flipH="1">
              <a:off x="1638000" y="3714840"/>
              <a:ext cx="1152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4"/>
            <p:cNvSpPr/>
            <p:nvPr/>
          </p:nvSpPr>
          <p:spPr>
            <a:xfrm>
              <a:off x="2790720" y="3714840"/>
              <a:ext cx="1008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1616760" y="365940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16"/>
            <p:cNvSpPr/>
            <p:nvPr/>
          </p:nvSpPr>
          <p:spPr>
            <a:xfrm>
              <a:off x="3343320" y="365940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17"/>
          <p:cNvGrpSpPr/>
          <p:nvPr/>
        </p:nvGrpSpPr>
        <p:grpSpPr>
          <a:xfrm>
            <a:off x="4568040" y="2852640"/>
            <a:ext cx="2181960" cy="1366920"/>
            <a:chOff x="4568040" y="2852640"/>
            <a:chExt cx="2181960" cy="1366920"/>
          </a:xfrm>
        </p:grpSpPr>
        <p:sp>
          <p:nvSpPr>
            <p:cNvPr id="321" name="Oval 18"/>
            <p:cNvSpPr/>
            <p:nvPr/>
          </p:nvSpPr>
          <p:spPr>
            <a:xfrm>
              <a:off x="4950000" y="2852640"/>
              <a:ext cx="1584360" cy="7192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Test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19"/>
            <p:cNvSpPr/>
            <p:nvPr/>
          </p:nvSpPr>
          <p:spPr>
            <a:xfrm flipH="1">
              <a:off x="4589280" y="3571920"/>
              <a:ext cx="1152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0"/>
            <p:cNvSpPr/>
            <p:nvPr/>
          </p:nvSpPr>
          <p:spPr>
            <a:xfrm>
              <a:off x="5742000" y="3571920"/>
              <a:ext cx="1008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1"/>
            <p:cNvSpPr/>
            <p:nvPr/>
          </p:nvSpPr>
          <p:spPr>
            <a:xfrm>
              <a:off x="4568040" y="35164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2"/>
            <p:cNvSpPr/>
            <p:nvPr/>
          </p:nvSpPr>
          <p:spPr>
            <a:xfrm>
              <a:off x="6294600" y="351648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23"/>
          <p:cNvGrpSpPr/>
          <p:nvPr/>
        </p:nvGrpSpPr>
        <p:grpSpPr>
          <a:xfrm>
            <a:off x="5649120" y="4221000"/>
            <a:ext cx="2181960" cy="1366920"/>
            <a:chOff x="5649120" y="4221000"/>
            <a:chExt cx="2181960" cy="1366920"/>
          </a:xfrm>
        </p:grpSpPr>
        <p:sp>
          <p:nvSpPr>
            <p:cNvPr id="327" name="Oval 24"/>
            <p:cNvSpPr/>
            <p:nvPr/>
          </p:nvSpPr>
          <p:spPr>
            <a:xfrm>
              <a:off x="6031080" y="4221000"/>
              <a:ext cx="1584360" cy="719280"/>
            </a:xfrm>
            <a:prstGeom prst="ellips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Test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25"/>
            <p:cNvSpPr/>
            <p:nvPr/>
          </p:nvSpPr>
          <p:spPr>
            <a:xfrm flipH="1">
              <a:off x="5670360" y="4940280"/>
              <a:ext cx="115236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6"/>
            <p:cNvSpPr/>
            <p:nvPr/>
          </p:nvSpPr>
          <p:spPr>
            <a:xfrm>
              <a:off x="6823080" y="4940280"/>
              <a:ext cx="10080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7"/>
            <p:cNvSpPr/>
            <p:nvPr/>
          </p:nvSpPr>
          <p:spPr>
            <a:xfrm>
              <a:off x="5649120" y="48848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28"/>
            <p:cNvSpPr/>
            <p:nvPr/>
          </p:nvSpPr>
          <p:spPr>
            <a:xfrm>
              <a:off x="7375680" y="4884840"/>
              <a:ext cx="44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29"/>
          <p:cNvSpPr/>
          <p:nvPr/>
        </p:nvSpPr>
        <p:spPr>
          <a:xfrm>
            <a:off x="1194480" y="4365720"/>
            <a:ext cx="788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R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0"/>
          <p:cNvSpPr/>
          <p:nvPr/>
        </p:nvSpPr>
        <p:spPr>
          <a:xfrm>
            <a:off x="3210840" y="4365720"/>
            <a:ext cx="788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R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1"/>
          <p:cNvSpPr/>
          <p:nvPr/>
        </p:nvSpPr>
        <p:spPr>
          <a:xfrm>
            <a:off x="4291920" y="4221000"/>
            <a:ext cx="788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R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2"/>
          <p:cNvSpPr/>
          <p:nvPr/>
        </p:nvSpPr>
        <p:spPr>
          <a:xfrm>
            <a:off x="5442840" y="5661000"/>
            <a:ext cx="788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R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3"/>
          <p:cNvSpPr/>
          <p:nvPr/>
        </p:nvSpPr>
        <p:spPr>
          <a:xfrm>
            <a:off x="7387560" y="5589720"/>
            <a:ext cx="788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LRM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Stablo model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Što je stablo regresije složenije (sa više hijerarhijskih nivoa), manji je stepen linearnosti između ulaznih i izlazne promenljiv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285480" y="1285920"/>
            <a:ext cx="786276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Grupisanje objekata opisanih nezavisnim atributima u predefinisane izlazne kla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4560" indent="-45720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Podela radnika po otvarenom učinku (nadprosečni /ispod prosek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14560" indent="-45720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Davanje zajma klijentima banke  (repay/default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Zadatak je odrediti kombinaciju karakteristika koja najbolje predviđa pripadnost entiteta određenoj kategorij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Potrebno je odrediti granicu između klasa. Ako je izlazna vrednost iznad granice, entitet pripada prvoj klasi, u suprotnom, drugoj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214200" y="0"/>
            <a:ext cx="793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900" spc="-1" strike="noStrike">
                <a:solidFill>
                  <a:srgbClr val="330066"/>
                </a:solidFill>
                <a:latin typeface="Arial"/>
              </a:rPr>
              <a:t>Upotreba višestruke regresije za 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d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iskriminat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iv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u</a:t>
            </a: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 anali</a:t>
            </a:r>
            <a:r>
              <a:rPr b="0" lang="sr-Latn-CS" sz="3900" spc="-1" strike="noStrike">
                <a:solidFill>
                  <a:srgbClr val="330066"/>
                </a:solidFill>
                <a:latin typeface="Arial"/>
              </a:rPr>
              <a:t>zu </a:t>
            </a:r>
            <a:r>
              <a:rPr b="0" lang="hr-HR" sz="3900" spc="-1" strike="noStrike">
                <a:solidFill>
                  <a:srgbClr val="330066"/>
                </a:solidFill>
                <a:latin typeface="Arial"/>
              </a:rPr>
              <a:t>– primer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369" t="11339" r="51674" b="31496"/>
          <a:stretch/>
        </p:blipFill>
        <p:spPr>
          <a:xfrm>
            <a:off x="4292640" y="3402000"/>
            <a:ext cx="4676760" cy="3267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Prosta linearna regresi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7786800" cy="45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Jednačina koja omogućava da </a:t>
            </a:r>
            <a:r>
              <a:rPr b="0" lang="hr-HR" sz="2600" spc="-1" strike="noStrike">
                <a:solidFill>
                  <a:srgbClr val="7e9ce8"/>
                </a:solidFill>
                <a:latin typeface="Arial"/>
              </a:rPr>
              <a:t>jedn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nezavisna promenljiva (x) bude prediktor zavisne promenljive (y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Forma j-ne (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slope intersect form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):   y=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x+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b   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Konstante a i b 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računaju nadgledanim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čenjem, primenjujući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tatistiku na pozn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vrednosti za x i 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– presek y 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- strmi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5094000" y="316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8587800" y="5818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5032440" y="491184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490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Podaci iz: </a:t>
            </a: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Insurance Fraud Detection </a:t>
            </a:r>
            <a:br>
              <a:rPr sz="2800"/>
            </a:b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Olson, D., Shi, Y. (2007), Introduction to Business Data Mining, McGraw-Hi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0" y="1928880"/>
          <a:ext cx="8839080" cy="4419360"/>
        </p:xfrm>
        <a:graphic>
          <a:graphicData uri="http://schemas.openxmlformats.org/drawingml/2006/table">
            <a:tbl>
              <a:tblPr/>
              <a:tblGrid>
                <a:gridCol w="1068480"/>
                <a:gridCol w="1068120"/>
                <a:gridCol w="1070280"/>
                <a:gridCol w="1068120"/>
                <a:gridCol w="1068480"/>
                <a:gridCol w="1068480"/>
                <a:gridCol w="1068480"/>
                <a:gridCol w="1358640"/>
              </a:tblGrid>
              <a:tr h="73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ant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 Am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 Clai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or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TextBox 3"/>
          <p:cNvSpPr/>
          <p:nvPr/>
        </p:nvSpPr>
        <p:spPr>
          <a:xfrm>
            <a:off x="3717360" y="16430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TRAINING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490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Podaci iz: </a:t>
            </a: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Insurance Fraud Detection </a:t>
            </a:r>
            <a:br>
              <a:rPr sz="2800"/>
            </a:b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Olson, D., Shi, Y. (2007), Introduction to Business Data Mining, McGraw-Hi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0" y="1928880"/>
          <a:ext cx="8839080" cy="4419360"/>
        </p:xfrm>
        <a:graphic>
          <a:graphicData uri="http://schemas.openxmlformats.org/drawingml/2006/table">
            <a:tbl>
              <a:tblPr/>
              <a:tblGrid>
                <a:gridCol w="1068480"/>
                <a:gridCol w="1068120"/>
                <a:gridCol w="1070280"/>
                <a:gridCol w="1068120"/>
                <a:gridCol w="1068480"/>
                <a:gridCol w="1068480"/>
                <a:gridCol w="1068480"/>
                <a:gridCol w="1358640"/>
              </a:tblGrid>
              <a:tr h="73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ant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 Am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 Clai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or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Box 3"/>
          <p:cNvSpPr/>
          <p:nvPr/>
        </p:nvSpPr>
        <p:spPr>
          <a:xfrm>
            <a:off x="357120" y="4429080"/>
            <a:ext cx="878688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dnačina linearne regresije - diskriminativna funkci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Outcome = 0.430 - 0.421 Age + 0.333 Gender - 0.648 Claim + + 0.584 Tickets - 1.091 Prior Claims + 0.573 Attorne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3717360" y="16430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TRAINING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490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Podaci iz: </a:t>
            </a: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Insurance Fraud Detection </a:t>
            </a:r>
            <a:br>
              <a:rPr sz="2800"/>
            </a:b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Olson, D., Shi, Y. (2007), Introduction to Business Data Mining, McGraw-Hi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0" y="1928880"/>
          <a:ext cx="8839080" cy="4419360"/>
        </p:xfrm>
        <a:graphic>
          <a:graphicData uri="http://schemas.openxmlformats.org/drawingml/2006/table">
            <a:tbl>
              <a:tblPr/>
              <a:tblGrid>
                <a:gridCol w="1068480"/>
                <a:gridCol w="1068120"/>
                <a:gridCol w="1070280"/>
                <a:gridCol w="1068120"/>
                <a:gridCol w="1068480"/>
                <a:gridCol w="1068480"/>
                <a:gridCol w="1068480"/>
                <a:gridCol w="1358640"/>
              </a:tblGrid>
              <a:tr h="73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ant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 Am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 Clai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or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TextBox 3"/>
          <p:cNvSpPr/>
          <p:nvPr/>
        </p:nvSpPr>
        <p:spPr>
          <a:xfrm>
            <a:off x="5929200" y="2143080"/>
            <a:ext cx="1785960" cy="4302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2060"/>
                </a:solidFill>
                <a:latin typeface="Arial"/>
              </a:rPr>
              <a:t>Izračunata vrednost izl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-0.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0.0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0.9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0.5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0.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0.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0.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0.4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0.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-0.1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4"/>
          <p:cNvSpPr/>
          <p:nvPr/>
        </p:nvSpPr>
        <p:spPr>
          <a:xfrm>
            <a:off x="3717360" y="16430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TRAINING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6"/>
          <p:cNvSpPr/>
          <p:nvPr/>
        </p:nvSpPr>
        <p:spPr>
          <a:xfrm>
            <a:off x="987480" y="648828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rosečna vrednost f-je za DOBRE klijente (grupa 0) = 0.106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loše =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0.7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490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Podaci iz: </a:t>
            </a: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Insurance Fraud Detection </a:t>
            </a:r>
            <a:br>
              <a:rPr sz="2800"/>
            </a:b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Olson, D., Shi, Y. (2007), Introduction to Business Data Mining, McGraw-Hi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0" y="1928880"/>
          <a:ext cx="8839080" cy="2577960"/>
        </p:xfrm>
        <a:graphic>
          <a:graphicData uri="http://schemas.openxmlformats.org/drawingml/2006/table">
            <a:tbl>
              <a:tblPr/>
              <a:tblGrid>
                <a:gridCol w="1068480"/>
                <a:gridCol w="1068120"/>
                <a:gridCol w="1070280"/>
                <a:gridCol w="1068120"/>
                <a:gridCol w="1068480"/>
                <a:gridCol w="1068480"/>
                <a:gridCol w="1068480"/>
                <a:gridCol w="1358640"/>
              </a:tblGrid>
              <a:tr h="73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ant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 Am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 Clai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or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TextBox 3"/>
          <p:cNvSpPr/>
          <p:nvPr/>
        </p:nvSpPr>
        <p:spPr>
          <a:xfrm>
            <a:off x="5857920" y="2143080"/>
            <a:ext cx="1785960" cy="2447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2060"/>
                </a:solidFill>
                <a:latin typeface="Arial"/>
              </a:rPr>
              <a:t>Izračunata vrednost izl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.48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0.2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.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0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0.6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4"/>
          <p:cNvSpPr/>
          <p:nvPr/>
        </p:nvSpPr>
        <p:spPr>
          <a:xfrm>
            <a:off x="3723840" y="16430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TEST POD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7"/>
          <p:cNvSpPr/>
          <p:nvPr/>
        </p:nvSpPr>
        <p:spPr>
          <a:xfrm>
            <a:off x="285840" y="4714920"/>
            <a:ext cx="8072280" cy="368280"/>
          </a:xfrm>
          <a:prstGeom prst="rect">
            <a:avLst/>
          </a:prstGeom>
          <a:noFill/>
          <a:ln w="9360">
            <a:solidFill>
              <a:srgbClr val="a3c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rosečna vrednost f-je za DOBRE klijente (grupa 0) = 0.106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loše =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0.7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Down Arrow 8"/>
          <p:cNvSpPr/>
          <p:nvPr/>
        </p:nvSpPr>
        <p:spPr>
          <a:xfrm>
            <a:off x="3714840" y="5072040"/>
            <a:ext cx="500040" cy="500040"/>
          </a:xfrm>
          <a:prstGeom prst="downArrow">
            <a:avLst>
              <a:gd name="adj1" fmla="val 50000"/>
              <a:gd name="adj2" fmla="val 70315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9"/>
          <p:cNvSpPr/>
          <p:nvPr/>
        </p:nvSpPr>
        <p:spPr>
          <a:xfrm>
            <a:off x="285840" y="5572080"/>
            <a:ext cx="8072280" cy="1191240"/>
          </a:xfrm>
          <a:prstGeom prst="rect">
            <a:avLst/>
          </a:prstGeom>
          <a:noFill/>
          <a:ln w="9360">
            <a:solidFill>
              <a:srgbClr val="a3c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ranica postignuća (cut-off) je njihova sredina: (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0.106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0.75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/2 =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.4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vi test primeri  sa rezultatom ispod 0.492 će biti ubrojani u klasu dobrih, a test primeri sa rezultatom preko 0.492 će biti ubrojani u klasu loši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490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Podaci iz: </a:t>
            </a: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Insurance Fraud Detection </a:t>
            </a:r>
            <a:br>
              <a:rPr sz="2800"/>
            </a:b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Olson, D., Shi, Y. (2007), Introduction to Business Data Mining, McGraw-Hi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1928880"/>
          <a:ext cx="8839080" cy="2577960"/>
        </p:xfrm>
        <a:graphic>
          <a:graphicData uri="http://schemas.openxmlformats.org/drawingml/2006/table">
            <a:tbl>
              <a:tblPr/>
              <a:tblGrid>
                <a:gridCol w="1068480"/>
                <a:gridCol w="1068120"/>
                <a:gridCol w="1070280"/>
                <a:gridCol w="1068120"/>
                <a:gridCol w="1068480"/>
                <a:gridCol w="1068480"/>
                <a:gridCol w="1068480"/>
                <a:gridCol w="1358640"/>
              </a:tblGrid>
              <a:tr h="73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ant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 Am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 Clai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or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TextBox 3"/>
          <p:cNvSpPr/>
          <p:nvPr/>
        </p:nvSpPr>
        <p:spPr>
          <a:xfrm>
            <a:off x="5857920" y="2143080"/>
            <a:ext cx="2071800" cy="2447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2060"/>
                </a:solidFill>
                <a:latin typeface="Arial"/>
              </a:rPr>
              <a:t>Izračunata vrednost izl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.480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0.429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0.2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.491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0.429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089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0.429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0.6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"/>
          <p:cNvSpPr/>
          <p:nvPr/>
        </p:nvSpPr>
        <p:spPr>
          <a:xfrm>
            <a:off x="3723840" y="16430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TEST POD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7"/>
          <p:cNvSpPr/>
          <p:nvPr/>
        </p:nvSpPr>
        <p:spPr>
          <a:xfrm>
            <a:off x="285840" y="4714920"/>
            <a:ext cx="8072280" cy="368280"/>
          </a:xfrm>
          <a:prstGeom prst="rect">
            <a:avLst/>
          </a:prstGeom>
          <a:noFill/>
          <a:ln w="9360">
            <a:solidFill>
              <a:srgbClr val="a3c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Prosečna vrednost f-je za DOBRE klijente (grupa 0) = 0.106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loše =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0.7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Down Arrow 8"/>
          <p:cNvSpPr/>
          <p:nvPr/>
        </p:nvSpPr>
        <p:spPr>
          <a:xfrm>
            <a:off x="3714840" y="5072040"/>
            <a:ext cx="500040" cy="500040"/>
          </a:xfrm>
          <a:prstGeom prst="downArrow">
            <a:avLst>
              <a:gd name="adj1" fmla="val 50000"/>
              <a:gd name="adj2" fmla="val 70315"/>
            </a:avLst>
          </a:prstGeom>
          <a:solidFill>
            <a:srgbClr val="cccc00"/>
          </a:solidFill>
          <a:ln w="25560">
            <a:solidFill>
              <a:srgbClr val="95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285840" y="5572080"/>
            <a:ext cx="8072280" cy="1191240"/>
          </a:xfrm>
          <a:prstGeom prst="rect">
            <a:avLst/>
          </a:prstGeom>
          <a:noFill/>
          <a:ln w="9360">
            <a:solidFill>
              <a:srgbClr val="a3c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ranica postignuća (cut-off) je njihova sredina: (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0.106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0.75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/2 =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.4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vi test primeri  sa rezultatom ispod 0.492 će biti ubrojani u klasu dobrih, a test primeri sa rezultatom preko 0.492 će biti ubrojani u klasu loši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286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4907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Podaci iz: </a:t>
            </a:r>
            <a:r>
              <a:rPr b="1" lang="sr-Latn-CS" sz="2800" spc="-1" strike="noStrike">
                <a:solidFill>
                  <a:srgbClr val="002060"/>
                </a:solidFill>
                <a:latin typeface="Arial"/>
              </a:rPr>
              <a:t>Insurance Fraud Detection </a:t>
            </a:r>
            <a:br>
              <a:rPr sz="2800"/>
            </a:br>
            <a:r>
              <a:rPr b="1" lang="sr-Latn-CS" sz="2800" spc="-1" strike="noStrike">
                <a:solidFill>
                  <a:srgbClr val="330066"/>
                </a:solidFill>
                <a:latin typeface="Arial"/>
              </a:rPr>
              <a:t>Olson, D., Shi, Y. (2007), Introduction to Business Data Mining, McGraw-Hill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0" y="1928880"/>
          <a:ext cx="8839080" cy="2577960"/>
        </p:xfrm>
        <a:graphic>
          <a:graphicData uri="http://schemas.openxmlformats.org/drawingml/2006/table">
            <a:tbl>
              <a:tblPr/>
              <a:tblGrid>
                <a:gridCol w="1068480"/>
                <a:gridCol w="1068120"/>
                <a:gridCol w="1070280"/>
                <a:gridCol w="1068120"/>
                <a:gridCol w="1068480"/>
                <a:gridCol w="1068480"/>
                <a:gridCol w="1068480"/>
                <a:gridCol w="1358640"/>
              </a:tblGrid>
              <a:tr h="73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ant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im Am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or Clai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or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TextBox 3"/>
          <p:cNvSpPr/>
          <p:nvPr/>
        </p:nvSpPr>
        <p:spPr>
          <a:xfrm>
            <a:off x="5857920" y="2143080"/>
            <a:ext cx="2071800" cy="24472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2060"/>
                </a:solidFill>
                <a:latin typeface="Arial"/>
              </a:rPr>
              <a:t>Izračunata vrednost izl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.480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0.429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0.2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.491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0.429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.089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0.429 </a:t>
            </a:r>
            <a:r>
              <a:rPr b="0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0.6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4"/>
          <p:cNvSpPr/>
          <p:nvPr/>
        </p:nvSpPr>
        <p:spPr>
          <a:xfrm>
            <a:off x="3723840" y="16430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TEST POD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0"/>
          <p:cNvSpPr/>
          <p:nvPr/>
        </p:nvSpPr>
        <p:spPr>
          <a:xfrm>
            <a:off x="5857920" y="5000760"/>
            <a:ext cx="28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Tačnost modela nad TEST PODACIMA je 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42960" y="4735440"/>
          <a:ext cx="4929120" cy="1463760"/>
        </p:xfrm>
        <a:graphic>
          <a:graphicData uri="http://schemas.openxmlformats.org/drawingml/2006/table">
            <a:tbl>
              <a:tblPr/>
              <a:tblGrid>
                <a:gridCol w="1231920"/>
                <a:gridCol w="1233360"/>
                <a:gridCol w="1231920"/>
                <a:gridCol w="1231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pravo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a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/5=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  <p:sp>
        <p:nvSpPr>
          <p:cNvPr id="373" name="Straight Connector 13"/>
          <p:cNvSpPr/>
          <p:nvPr/>
        </p:nvSpPr>
        <p:spPr>
          <a:xfrm>
            <a:off x="714240" y="5857920"/>
            <a:ext cx="485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15"/>
          <p:cNvSpPr/>
          <p:nvPr/>
        </p:nvSpPr>
        <p:spPr>
          <a:xfrm>
            <a:off x="4357800" y="4786200"/>
            <a:ext cx="0" cy="135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8"/>
          <p:cNvSpPr/>
          <p:nvPr/>
        </p:nvSpPr>
        <p:spPr>
          <a:xfrm>
            <a:off x="6286680" y="3071880"/>
            <a:ext cx="257148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9"/>
          <p:cNvSpPr/>
          <p:nvPr/>
        </p:nvSpPr>
        <p:spPr>
          <a:xfrm>
            <a:off x="6286680" y="3500280"/>
            <a:ext cx="2571480" cy="3574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20"/>
          <p:cNvSpPr/>
          <p:nvPr/>
        </p:nvSpPr>
        <p:spPr>
          <a:xfrm>
            <a:off x="6143760" y="4214880"/>
            <a:ext cx="2571480" cy="357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Upotreba višestruke regresije za klasifikaciju – primer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91440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Baza komitenata – vlasnika kreditne kart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iprema podataka:  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pol ženski →0, muški → 1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promocij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Yes →1, No →0, intervali →donja gran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moc.živ-osig.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=0.5909(osig.k.k) -0.5455 (pol) + 0.772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a li je ženska osoba koja nema osig.k.k. kandidat za promoc.živ-osig.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omoc.živ-osig.=0.5909(0) -0.5455 (0) +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+ 0.7727=0.772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Vrednost blizu 1 znači da jeste kandid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100" spc="-1" strike="noStrike">
                <a:solidFill>
                  <a:srgbClr val="330066"/>
                </a:solidFill>
                <a:latin typeface="Arial"/>
              </a:rPr>
              <a:t>Nedostaci linearne/višestruke regresije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U funkciji izlazna promenljiva nije ograničena, već može biti i negativna. Trebalo bi ograničiti na vrednosti između 0 i 1, kao verovatnost pojavljivanja/nepojavljivanja događaj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Rešenje: Logaritamska transformacija j-ne linearne regresije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vidi prezentaciju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. teh. 1A - Logaritamska regresi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Izračunavanje konstanti </a:t>
            </a:r>
            <a:r>
              <a:rPr b="1" i="1" lang="hr-HR" sz="3900" spc="-1" strike="noStrike">
                <a:solidFill>
                  <a:srgbClr val="330066"/>
                </a:solidFill>
                <a:latin typeface="Arial"/>
              </a:rPr>
              <a:t>a</a:t>
            </a: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 i </a:t>
            </a:r>
            <a:r>
              <a:rPr b="1" i="1" lang="hr-HR" sz="3900" spc="-1" strike="noStrike">
                <a:solidFill>
                  <a:srgbClr val="330066"/>
                </a:solidFill>
                <a:latin typeface="Arial"/>
              </a:rPr>
              <a:t>b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02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Kriterijum najmanjeg kvadra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Minimizira se suma kvadrata razdaljine stvarnih i predviđenih vrednosti 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Jedna nezavisna promenliva – ograničenje za primenu u D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4"/>
              <p:cNvSpPr txBox="1"/>
              <p:nvPr/>
            </p:nvSpPr>
            <p:spPr>
              <a:xfrm>
                <a:off x="1258920" y="3716280"/>
                <a:ext cx="185112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6"/>
              <p:cNvSpPr txBox="1"/>
              <p:nvPr/>
            </p:nvSpPr>
            <p:spPr>
              <a:xfrm>
                <a:off x="3708360" y="3645000"/>
                <a:ext cx="338472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n</m:t>
                            </m:r>
                          </m:e>
                        </m:nary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Text Box 8"/>
          <p:cNvSpPr/>
          <p:nvPr/>
        </p:nvSpPr>
        <p:spPr>
          <a:xfrm>
            <a:off x="7865280" y="385128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Jednačina višestruke linearne regresij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pšti oblik jednačin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)=a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+...+a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hr-HR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</a:rPr>
              <a:t>+c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(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- nezavisne promenlj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a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...,a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n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- kon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hr-H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 - zavisna promenljiva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- presek sa y o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Višestruka linearna regresij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EXCEL podržava prostu i višestruku regresij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INEST f-j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imer iz Microsoft EXCEL-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Tabela sa podacima o kancelarijskom prostoru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Nezavise prom.: površina, br.kancelarija, br. ulaza, starost zgr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Zavisna prom.: procenjena ce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2"/>
          <p:cNvGraphicFramePr/>
          <p:nvPr/>
        </p:nvGraphicFramePr>
        <p:xfrm>
          <a:off x="711360" y="1828800"/>
          <a:ext cx="8432640" cy="378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828800"/>
                    <a:ext cx="843264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Koraci anal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tvorite novu EXCEL tabe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nesite podatke  kolone A do E, redove 1 do 12. Prva kolona sadrži nazive atribu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zlaz LINEST f-je je prostor nxn, gde je n br. Promenljivih korištenih u regresiji. (n=5) Osvetlite ovoliko prazno područje za prikaz izlaza f-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kucajte f-ju: =LINEST(E2:E12,A2:D12,TRUE,TR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itisnite </a:t>
            </a: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Ctrl + Shift + Enter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a se prikaže rezultat u osvetljenom delu tabe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Koraci analiz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tvorite novu EXCEL tabel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nesite podatke  kolone A do E, redove 1 do 12. Prva kolona sadrži nazive atribu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zlaz LINEST f-je je prostor nxn, gde je n br. Promenljivih korištenih u regresiji. (n=5) Osvetlite ovoliko prazno područje za prikaz izlaza f-j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kucajte f-ju: =LINEST(E2:E12,A2:D12,TRUE,TRU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itisnite </a:t>
            </a: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Ctrl + Shift + Enter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a s prikaže rezultat u osvetljenom delu tabe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900000" y="2276640"/>
            <a:ext cx="2232000" cy="1295280"/>
          </a:xfrm>
          <a:prstGeom prst="wedgeRectCallout">
            <a:avLst>
              <a:gd name="adj1" fmla="val 48365"/>
              <a:gd name="adj2" fmla="val 14276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dručje zavisne p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5"/>
          <p:cNvSpPr/>
          <p:nvPr/>
        </p:nvSpPr>
        <p:spPr>
          <a:xfrm>
            <a:off x="3419640" y="1700280"/>
            <a:ext cx="2879640" cy="1150920"/>
          </a:xfrm>
          <a:prstGeom prst="wedgeRectCallout">
            <a:avLst>
              <a:gd name="adj1" fmla="val -19129"/>
              <a:gd name="adj2" fmla="val 2146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dručje nezavisne pr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5003640" y="2924280"/>
            <a:ext cx="4140360" cy="1584360"/>
          </a:xfrm>
          <a:prstGeom prst="wedgeRectCallout">
            <a:avLst>
              <a:gd name="adj1" fmla="val -41754"/>
              <a:gd name="adj2" fmla="val 72643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ALSE – b će biti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UE ili izostavljeno, b se izračun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168120" y="5300640"/>
            <a:ext cx="5699160" cy="1297080"/>
          </a:xfrm>
          <a:prstGeom prst="wedgeRectCallout">
            <a:avLst>
              <a:gd name="adj1" fmla="val 65879"/>
              <a:gd name="adj2" fmla="val -5918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ALSE – vraćaju se samo koef. regresije, u suprotnom i statistika efikasnosti jednačine regres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8T08:14:40Z</dcterms:created>
  <dc:creator>Prof. dr Sasa Bosnjak</dc:creator>
  <dc:description/>
  <dc:language>en-US</dc:language>
  <cp:lastModifiedBy>Zita Bosnjak</cp:lastModifiedBy>
  <dcterms:modified xsi:type="dcterms:W3CDTF">2018-03-29T07:26:41Z</dcterms:modified>
  <cp:revision>108</cp:revision>
  <dc:subject/>
  <dc:title>Statističke tehnike DM</dc:title>
</cp:coreProperties>
</file>