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FAE-BCF3-43A0-9868-34CE860A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50B-1AA5-4D10-AAB5-05244972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0CEA-F504-4AD0-8ED9-BDA1C63B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005-8AB4-41AB-B788-60730630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E9FC-55B7-4CD8-A7F2-C98E9B58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F338-5828-4C82-9FAE-3CACF70D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AAD8-3B5D-46FD-A110-9F851A33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06CF-269E-4F8C-9B36-EE823A23B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39DB-1330-4871-8790-0C201E74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50B0-5EF0-4114-8333-CCAE927F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1BEC-34D3-4570-9149-2B82B7C7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998-4800-4A51-ACC1-0AE911DD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0D4F-E5C8-4C5A-ABBB-B7FDFC06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7CE2-E982-47E6-8CA1-5B5E1067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CC05-13E4-4197-A32F-D101A680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8BF8-4DDD-43E2-AAF3-25D60B05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53BB-B304-4EB7-8784-9F8F50604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6B7F-7432-4947-B382-BFB8E5EC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42D-025B-4981-8372-4054E02C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5CE4-1E66-4382-8FBE-BD90AEE1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DBD-7384-45A3-9B0A-9F311570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45FD-3815-4CD4-809E-64135C04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F1E4-D770-46C5-91C2-0D1F558B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C65D-8E01-4171-9C52-E41E614D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AC0A-46C5-4ECB-9371-DC0A4122F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FB71-19A3-44CA-821E-A59119F92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Jednos</a:t>
            </a: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tavna ilustracija G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Metode i tehnike analize podatak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Prof. dr Zita Bošnja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4. korak: altera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Za problem maksimizacije – što je veći skor, verovatnije je da rešenje ostaje u narednoj generacij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(zadržavamo g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Random odabir rulet-tehniko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na osnovu izračunate verovatnoće f(x)/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f(x), crtamo “točak ruleta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uzimamo rešenja prema očekivanoj reprodukciji f(x)/Avgf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3581280" y="2971800"/>
            <a:ext cx="48769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4648320" y="3581280"/>
            <a:ext cx="22860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5943600" y="4114800"/>
            <a:ext cx="77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49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4800600" y="4191120"/>
            <a:ext cx="77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5257800" y="5181480"/>
            <a:ext cx="77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31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6176880" y="5105520"/>
            <a:ext cx="77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6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Line 11"/>
          <p:cNvSpPr/>
          <p:nvPr/>
        </p:nvSpPr>
        <p:spPr>
          <a:xfrm flipH="1" flipV="1">
            <a:off x="5181120" y="37339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Line 12"/>
          <p:cNvSpPr/>
          <p:nvPr/>
        </p:nvSpPr>
        <p:spPr>
          <a:xfrm>
            <a:off x="5867280" y="464832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5867280" y="464832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Line 14"/>
          <p:cNvSpPr/>
          <p:nvPr/>
        </p:nvSpPr>
        <p:spPr>
          <a:xfrm flipH="1">
            <a:off x="4648320" y="4648320"/>
            <a:ext cx="12189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4624560" y="5667480"/>
            <a:ext cx="426708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CR1, CR2, CR2, CR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17"/>
          <p:cNvSpPr/>
          <p:nvPr/>
        </p:nvSpPr>
        <p:spPr>
          <a:xfrm>
            <a:off x="6097320" y="5257800"/>
            <a:ext cx="22136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sledeć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generacij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3366"/>
                </a:solidFill>
                <a:latin typeface="Verdana"/>
              </a:rPr>
              <a:t>5. korak: genetički operatori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kr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štanje ne mora da se primeni na sve parove elemenata populaci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Specificiramo verovatnoću ukrštanja, PC (crossover probability) od 0.5 do 1.0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Ako PC=0, potomci su samo duplikacija roditelja, za PC=1 se svaki par ukrš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982440"/>
            <a:ext cx="8163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3366"/>
                </a:solidFill>
                <a:latin typeface="Verdana"/>
              </a:rPr>
              <a:t>... 5. korak: genetički operatori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Zadajemo još i % populacije koja će se menjati mutacij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npr. PM = 0.001 (0.1%): na 1000 bitova dolazi 1 mutaci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za jednu transformaciju populacije od 4 elementa sa 5 bitova, imamo 2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tova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(4X5) te nema mutacij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do mutacije će doći tek svakih 50 iteracija (50X20=100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… </a:t>
            </a:r>
            <a:r>
              <a:rPr b="0" lang="sl-SI" sz="4000" spc="-1" strike="noStrike">
                <a:solidFill>
                  <a:srgbClr val="003366"/>
                </a:solidFill>
                <a:latin typeface="Verdana"/>
              </a:rPr>
              <a:t>5. korak: genetički operatori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1 = 01101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1.p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2 = 11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2 = 11000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2.pa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4 = 10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’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=011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2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’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=110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’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=11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4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’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=10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2971800" y="1752480"/>
            <a:ext cx="0" cy="990720"/>
          </a:xfrm>
          <a:prstGeom prst="line">
            <a:avLst/>
          </a:prstGeom>
          <a:ln w="93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Line 5"/>
          <p:cNvSpPr/>
          <p:nvPr/>
        </p:nvSpPr>
        <p:spPr>
          <a:xfrm>
            <a:off x="990720" y="39625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Line 6"/>
          <p:cNvSpPr/>
          <p:nvPr/>
        </p:nvSpPr>
        <p:spPr>
          <a:xfrm>
            <a:off x="2971800" y="3124080"/>
            <a:ext cx="0" cy="762120"/>
          </a:xfrm>
          <a:prstGeom prst="line">
            <a:avLst/>
          </a:prstGeom>
          <a:ln w="9360">
            <a:solidFill>
              <a:srgbClr val="9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3366"/>
                </a:solidFill>
                <a:latin typeface="Verdana"/>
              </a:rPr>
              <a:t>Nova iteracija – ponovna evaluacija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80880" y="1828800"/>
          <a:ext cx="8763120" cy="4697280"/>
        </p:xfrm>
        <a:graphic>
          <a:graphicData uri="http://schemas.openxmlformats.org/drawingml/2006/table">
            <a:tbl>
              <a:tblPr/>
              <a:tblGrid>
                <a:gridCol w="914400"/>
                <a:gridCol w="1371600"/>
                <a:gridCol w="838440"/>
                <a:gridCol w="1218960"/>
                <a:gridCol w="1905120"/>
                <a:gridCol w="25146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</a:t>
                      </a:r>
                      <a:r>
                        <a:rPr b="0" lang="sl-SI" sz="2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/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/Avg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Analiza rezultat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=1170 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=1754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Avg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=293 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Avg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=43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Ma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=576 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Ma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=72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Najbolji je CR3 = 11011, tj. X=2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teoretski max je za X= 31, f(x)=96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91160"/>
            <a:ext cx="81630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Šta je potrebno uraditi pre primene GA?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56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Treba odrediti komponen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Genetičku reprezentaciju (šemu kodiranja) za potencijalna rešen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Kreirati inicijelnu populaciju potencijalnih rešenj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Definisati funkciju evaluacije za rangiranje rešenja po “dobrot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Odrediti genetičke operatore za menjanje “potomaka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Odrediti parametre GA (veličinu populacije, učestalost primene operatora,..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3366"/>
                </a:solidFill>
                <a:latin typeface="Verdana"/>
              </a:rPr>
              <a:t>Primer – optimizacija funkcij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f(x)=x</a:t>
            </a:r>
            <a:r>
              <a:rPr b="0" lang="sl-SI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Naći x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(0,31) koji maksimizira f-j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1. korak: reprezenta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4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Zahtevi za predstavljanje alternativ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format kodiranog string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minimalan, ali sveobuhvatan metod kodir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Koristićemo binarni vektor – hromoz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dužina vektora zavisi od zahtevane preciznosti, koja je u primeru =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potrebno je min. 5 bitova za opseg (0,3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spcBef>
                <a:spcPts val="499"/>
              </a:spcBef>
              <a:buClr>
                <a:srgbClr val="003366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(b-a)/(2</a:t>
            </a:r>
            <a:r>
              <a:rPr b="0" lang="sl-SI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–1)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000" spc="-1" strike="noStrike">
                <a:solidFill>
                  <a:srgbClr val="000000"/>
                </a:solidFill>
                <a:latin typeface="Verdana"/>
              </a:rPr>
              <a:t> Zahtevana precizn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(31-0)/(2</a:t>
            </a:r>
            <a:r>
              <a:rPr b="0" lang="sl-SI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–1)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1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sl-SI" sz="2000" spc="-1" strike="noStrike" baseline="30000">
                <a:solidFill>
                  <a:srgbClr val="000000"/>
                </a:solidFill>
                <a:latin typeface="Verdana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3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752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1800" spc="-1" strike="noStrike">
                <a:solidFill>
                  <a:srgbClr val="000000"/>
                </a:solidFill>
                <a:latin typeface="Verdana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... 1. korak: reprezenta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4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Realni broj 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binarni k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kod = binarno(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Verdana"/>
              </a:rPr>
              <a:t>decimalno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Binarni kod </a:t>
            </a:r>
            <a:r>
              <a:rPr b="0" lang="sl-SI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 realni broj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X = decimalno(kod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Verdana"/>
              </a:rPr>
              <a:t>binarno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Npr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X=11,  odgovarajući kod=010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Verdana"/>
              </a:rPr>
              <a:t>kod=11001 odgovarajući broj je X=2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3366"/>
                </a:solidFill>
                <a:latin typeface="Verdana"/>
              </a:rPr>
              <a:t>2. korak: Inicijelna populacija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Na slučajan način kreiramo hromozome tražene duž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(m=5 u primeru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Npr. neka uzmemo 4 element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1 = 0110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2 = 11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3 = 0100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CR4 = 1001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3. korak: Evalua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Evaluatorna funkcija je jednaka f-ji f(x), gde hromozom predstavlja binarnu vrednost rešenja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x1(CR1 = 01101) = 13      f(x1) = 16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x2(CR2 = 11000) = 24      f(x2) = 57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x3(CR3 = 01000) =   8      f(x3) =  6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x4(CR4 = 10011) = 19      f(x4) = 36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...   3. korak: Evalua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80880" y="1828800"/>
          <a:ext cx="8763120" cy="4697280"/>
        </p:xfrm>
        <a:graphic>
          <a:graphicData uri="http://schemas.openxmlformats.org/drawingml/2006/table">
            <a:tbl>
              <a:tblPr/>
              <a:tblGrid>
                <a:gridCol w="914400"/>
                <a:gridCol w="1371600"/>
                <a:gridCol w="838440"/>
                <a:gridCol w="1218960"/>
                <a:gridCol w="1905120"/>
                <a:gridCol w="251460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</a:t>
                      </a:r>
                      <a:r>
                        <a:rPr b="0" lang="sl-SI" sz="2800" spc="-1" strike="noStrike" baseline="-25000">
                          <a:solidFill>
                            <a:srgbClr val="000000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/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(x)/Avgf(x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3366"/>
                </a:solidFill>
                <a:latin typeface="Verdana"/>
              </a:rPr>
              <a:t>4. korak: alteracij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Za problem maksimizacije – što je veći skor, verovatnije je da rešenje ostaje u narednoj generacij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(zadržavamo g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Verdana"/>
              </a:rPr>
              <a:t>Random odabir rulet-tehniko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na osnovu izračunate verovatnoće f(x)/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f(x), crtamo “točak ruleta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uzimamo rešenja prema očekivanoj reprodukciji f(x)/Avgf(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1:57:27Z</dcterms:created>
  <dc:creator>ce</dc:creator>
  <dc:description/>
  <dc:language>en-US</dc:language>
  <cp:lastModifiedBy>Zita Bosnjak</cp:lastModifiedBy>
  <dcterms:modified xsi:type="dcterms:W3CDTF">2011-11-21T09:12:49Z</dcterms:modified>
  <cp:revision>24</cp:revision>
  <dc:subject/>
  <dc:title>Jednostavna ilustracija GA</dc:title>
</cp:coreProperties>
</file>