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43F-A76D-4896-AF6F-C9E6BE22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922-0C63-4AC0-937C-E633D453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EBB7-32C5-4EC1-8DF9-0E2A47C8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2A93-3858-4CC7-B0C1-6546EBEA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D5AB-C850-476F-8D67-5CA56638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1A42-A862-47FF-9796-732661D1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BFDE-B8E0-4EC4-9C48-8F1EA024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F61-11EC-45EA-9259-E1A4C516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09E2-97FB-4637-A85C-159061B9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1772-92A8-473D-B86C-3FC6BD3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F922-C1F5-4466-BA35-3C0D16C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A16-35C4-44F2-A7C0-866491A7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624B-759A-4FEA-BCE8-66DF86C1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FBEA-B628-40F8-BEE1-5A40001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893D-42B4-430D-8A97-871A997D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9D1B-0B96-432C-AB7C-A2E7E883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C69A-B502-4C73-9CC9-F9A93AA2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EB3-7657-4AAC-A180-4F870B27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E55-A3FD-4008-A1EC-B02B65F8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7190-2DE2-42CE-B460-E6DF866A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A92B-4F46-40C3-8265-BE677DD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5B9-6486-40EF-A6AC-8B8905B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388-35E7-41C1-A721-1185F96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A3D-5146-488D-A900-C9B0383F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6898-762B-4374-A6BF-B720214E0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215A-73D5-4EFD-842A-B2A1A171812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Pravljenje rasporeda održavanja energetskih postrojenja pomoću genetičkih algoritam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ija slu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ča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of. dr Zita Bošnj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edstavljanje rešenja kao hromozom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752120"/>
            <a:ext cx="73519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Rešenje problem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reiranje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“korpe gen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o od 4 bita se posmatra kao najmanja celina koja se može modifikovati. Svaka modifikacija uzima novu 4-o bitnu celinu iz “korpe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95280" y="3505320"/>
          <a:ext cx="6859800" cy="3203280"/>
        </p:xfrm>
        <a:graphic>
          <a:graphicData uri="http://schemas.openxmlformats.org/drawingml/2006/table">
            <a:tbl>
              <a:tblPr/>
              <a:tblGrid>
                <a:gridCol w="971640"/>
                <a:gridCol w="1306440"/>
                <a:gridCol w="216000"/>
                <a:gridCol w="1336680"/>
                <a:gridCol w="216000"/>
                <a:gridCol w="1336680"/>
                <a:gridCol w="216000"/>
                <a:gridCol w="182160"/>
                <a:gridCol w="1078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1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F se računa kao 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najmanja neto rezerva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koju hromozom postiže tokom godi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Ako je neto rezerva negativna, kombinacija remonta predstavljena hromozomom nije validna i F dobija vrednost 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računamo F kao najmanju neto rezervu, u 2 korak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. korak: Računamo ukupan remontovani kapaci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1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20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3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40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00e4a8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0=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2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20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3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40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0=3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3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20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3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40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5+</a:t>
            </a:r>
            <a:r>
              <a:rPr b="0" lang="sr-Latn-CS" sz="2400" spc="-1" strike="noStrike">
                <a:solidFill>
                  <a:srgbClr val="3333cc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x10=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4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0x20+1x15+1x35+0x40+0x15+0x15+0x10=5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819520"/>
          <a:ext cx="8040960" cy="1120680"/>
        </p:xfrm>
        <a:graphic>
          <a:graphicData uri="http://schemas.openxmlformats.org/drawingml/2006/table">
            <a:tbl>
              <a:tblPr/>
              <a:tblGrid>
                <a:gridCol w="1150920"/>
                <a:gridCol w="1146240"/>
                <a:gridCol w="1149480"/>
                <a:gridCol w="1147680"/>
                <a:gridCol w="1149480"/>
                <a:gridCol w="1146240"/>
                <a:gridCol w="1150920"/>
              </a:tblGrid>
              <a:tr h="60948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računamo F kao najmanju neto rezervu, u 2 korak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. korak: Odbijamo opterećenje i gubitak kapacit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1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80MW -50MW = 20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2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90MW -35MW = 2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3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65MW -50MW = 3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4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70MW -50MW = 30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2819520"/>
          <a:ext cx="8040960" cy="1120680"/>
        </p:xfrm>
        <a:graphic>
          <a:graphicData uri="http://schemas.openxmlformats.org/drawingml/2006/table">
            <a:tbl>
              <a:tblPr/>
              <a:tblGrid>
                <a:gridCol w="1150920"/>
                <a:gridCol w="1146240"/>
                <a:gridCol w="1149480"/>
                <a:gridCol w="1147680"/>
                <a:gridCol w="1149480"/>
                <a:gridCol w="1146240"/>
                <a:gridCol w="1150920"/>
              </a:tblGrid>
              <a:tr h="60948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Kriterijum optimalnosti – fitnes funkcija F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sr-Latn-C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računamo F kao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najmanju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eto rezervu, u 2 korak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. korak: Odbijamo opterećenje i gubitak kapacit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1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80MW -50MW =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20MW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2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90MW -35MW = 2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3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65MW -50MW = 35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terval 4: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alisani kapac. 150MW -70MW -50MW = 30M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2819520"/>
          <a:ext cx="8040960" cy="1120680"/>
        </p:xfrm>
        <a:graphic>
          <a:graphicData uri="http://schemas.openxmlformats.org/drawingml/2006/table">
            <a:tbl>
              <a:tblPr/>
              <a:tblGrid>
                <a:gridCol w="1150920"/>
                <a:gridCol w="1146240"/>
                <a:gridCol w="1149480"/>
                <a:gridCol w="1147680"/>
                <a:gridCol w="1149480"/>
                <a:gridCol w="1146240"/>
                <a:gridCol w="1150920"/>
              </a:tblGrid>
              <a:tr h="60948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e4a8"/>
                          </a:solidFill>
                          <a:latin typeface="Tahoma"/>
                        </a:rPr>
                        <a:t>1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Line 44"/>
          <p:cNvSpPr/>
          <p:nvPr/>
        </p:nvSpPr>
        <p:spPr>
          <a:xfrm>
            <a:off x="6705720" y="2514600"/>
            <a:ext cx="121896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13840"/>
            <a:ext cx="856296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333399"/>
                </a:solidFill>
                <a:latin typeface="Tahoma"/>
              </a:rPr>
              <a:t>Konstruisanje genetičkih operatora: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Picture 4" descr="Primer sa GA 1 slika"/>
          <p:cNvPicPr/>
          <p:nvPr/>
        </p:nvPicPr>
        <p:blipFill>
          <a:blip r:embed="rId1"/>
          <a:srcRect l="0" t="5180" r="0" b="0"/>
          <a:stretch/>
        </p:blipFill>
        <p:spPr>
          <a:xfrm>
            <a:off x="1295280" y="1106640"/>
            <a:ext cx="7848720" cy="5459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4782240" y="990720"/>
            <a:ext cx="27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OPERATOR UKRŠTANJ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95288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OPERATOR MUTACIJE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x zamenjujemo genom “iz korpe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dabrati veličinu popul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drediti broj iteracija pre zaustavljan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0000"/>
                </a:solidFill>
                <a:latin typeface="Tahoma"/>
              </a:rPr>
              <a:t>SAMO EKSPERIMENTISANJEM možemo doći do odgovora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4" descr="primer sa GA slika 2"/>
          <p:cNvPicPr/>
          <p:nvPr/>
        </p:nvPicPr>
        <p:blipFill>
          <a:blip r:embed="rId1"/>
          <a:srcRect l="10450" t="7717" r="17423" b="51821"/>
          <a:stretch/>
        </p:blipFill>
        <p:spPr>
          <a:xfrm>
            <a:off x="3429000" y="1760400"/>
            <a:ext cx="5562720" cy="4932360"/>
          </a:xfrm>
          <a:prstGeom prst="rect">
            <a:avLst/>
          </a:prstGeom>
          <a:ln w="0">
            <a:noFill/>
          </a:ln>
        </p:spPr>
      </p:pic>
      <p:sp>
        <p:nvSpPr>
          <p:cNvPr id="142" name="Oval 5"/>
          <p:cNvSpPr/>
          <p:nvPr/>
        </p:nvSpPr>
        <p:spPr>
          <a:xfrm>
            <a:off x="5257800" y="403848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017440"/>
            <a:ext cx="3581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5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generacija, </a:t>
            </a: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2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hromozo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Min. neto rezerva je 15M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702000" y="4451400"/>
            <a:ext cx="342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paciteti izgubljeni remont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eostali kapacite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x. opterećen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2895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8"/>
          <p:cNvSpPr/>
          <p:nvPr/>
        </p:nvSpPr>
        <p:spPr>
          <a:xfrm flipV="1">
            <a:off x="4114800" y="4495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9"/>
          <p:cNvSpPr/>
          <p:nvPr/>
        </p:nvSpPr>
        <p:spPr>
          <a:xfrm flipV="1">
            <a:off x="4114800" y="449568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0"/>
          <p:cNvSpPr/>
          <p:nvPr/>
        </p:nvSpPr>
        <p:spPr>
          <a:xfrm>
            <a:off x="4114800" y="4648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Line 11"/>
          <p:cNvSpPr/>
          <p:nvPr/>
        </p:nvSpPr>
        <p:spPr>
          <a:xfrm>
            <a:off x="2819520" y="5791320"/>
            <a:ext cx="2590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Line 12"/>
          <p:cNvSpPr/>
          <p:nvPr/>
        </p:nvSpPr>
        <p:spPr>
          <a:xfrm>
            <a:off x="2819520" y="57913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13"/>
          <p:cNvSpPr/>
          <p:nvPr/>
        </p:nvSpPr>
        <p:spPr>
          <a:xfrm flipV="1">
            <a:off x="2819520" y="5562360"/>
            <a:ext cx="4114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114800" y="4648320"/>
            <a:ext cx="3581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15"/>
          <p:cNvSpPr/>
          <p:nvPr/>
        </p:nvSpPr>
        <p:spPr>
          <a:xfrm flipV="1">
            <a:off x="2819520" y="5715000"/>
            <a:ext cx="4952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val 16"/>
          <p:cNvSpPr/>
          <p:nvPr/>
        </p:nvSpPr>
        <p:spPr>
          <a:xfrm>
            <a:off x="5486400" y="1676520"/>
            <a:ext cx="2286000" cy="53316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6" descr="primer sa GA slika 2"/>
          <p:cNvPicPr/>
          <p:nvPr/>
        </p:nvPicPr>
        <p:blipFill>
          <a:blip r:embed="rId1"/>
          <a:srcRect l="17423" t="49617" r="20906" b="11026"/>
          <a:stretch/>
        </p:blipFill>
        <p:spPr>
          <a:xfrm>
            <a:off x="3809880" y="1447920"/>
            <a:ext cx="5056200" cy="5102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6934320" y="4038480"/>
            <a:ext cx="45720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017440"/>
            <a:ext cx="3581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10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generacija, </a:t>
            </a:r>
            <a:r>
              <a:rPr b="0" lang="sr-Latn-CS" sz="2000" spc="-1" strike="noStrike">
                <a:solidFill>
                  <a:srgbClr val="00e4a8"/>
                </a:solidFill>
                <a:latin typeface="Tahoma"/>
              </a:rPr>
              <a:t>2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hromozo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0000"/>
                </a:solidFill>
                <a:latin typeface="Tahoma"/>
              </a:rPr>
              <a:t>Min. neto rezerva je 20MW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02000" y="4451400"/>
            <a:ext cx="342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paciteti izgubljeni remont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eostali kapacite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x. opterećenj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2895480" y="5181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4114800" y="4495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Line 9"/>
          <p:cNvSpPr/>
          <p:nvPr/>
        </p:nvSpPr>
        <p:spPr>
          <a:xfrm flipV="1">
            <a:off x="4114800" y="4495680"/>
            <a:ext cx="1905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4114800" y="4648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2819520" y="5791320"/>
            <a:ext cx="2590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2819520" y="5791320"/>
            <a:ext cx="3429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3"/>
          <p:cNvSpPr/>
          <p:nvPr/>
        </p:nvSpPr>
        <p:spPr>
          <a:xfrm flipV="1">
            <a:off x="2819520" y="5562360"/>
            <a:ext cx="4114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4114800" y="4648320"/>
            <a:ext cx="3581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5"/>
          <p:cNvSpPr/>
          <p:nvPr/>
        </p:nvSpPr>
        <p:spPr>
          <a:xfrm flipV="1">
            <a:off x="2819520" y="5715000"/>
            <a:ext cx="49528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5562720" y="1447920"/>
            <a:ext cx="2286000" cy="53316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okretanje GA,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e4a8"/>
                </a:solidFill>
                <a:latin typeface="Tahoma"/>
              </a:rPr>
              <a:t>1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generacija, </a:t>
            </a:r>
            <a:r>
              <a:rPr b="0" lang="en-US" sz="2400" spc="-1" strike="noStrike">
                <a:solidFill>
                  <a:srgbClr val="00e4a8"/>
                </a:solidFill>
                <a:latin typeface="Tahoma"/>
              </a:rPr>
              <a:t>1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hromozo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Min. neto rezerva je 25M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9900"/>
                </a:solidFill>
                <a:latin typeface="Tahoma"/>
              </a:rPr>
              <a:t>Povećamo verovatnoću mutacije sa 0.001 na 0.01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18" descr="primer sa GA slika 3"/>
          <p:cNvPicPr/>
          <p:nvPr/>
        </p:nvPicPr>
        <p:blipFill>
          <a:blip r:embed="rId1"/>
          <a:srcRect l="0" t="5537" r="0" b="12736"/>
          <a:stretch/>
        </p:blipFill>
        <p:spPr>
          <a:xfrm>
            <a:off x="3886200" y="0"/>
            <a:ext cx="5029200" cy="67467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9"/>
          <p:cNvSpPr/>
          <p:nvPr/>
        </p:nvSpPr>
        <p:spPr>
          <a:xfrm>
            <a:off x="457200" y="5562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DO SADA NAJBOLJI RASPORED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Oval 20"/>
          <p:cNvSpPr/>
          <p:nvPr/>
        </p:nvSpPr>
        <p:spPr>
          <a:xfrm>
            <a:off x="5257800" y="5029200"/>
            <a:ext cx="106668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Oval 22"/>
          <p:cNvSpPr/>
          <p:nvPr/>
        </p:nvSpPr>
        <p:spPr>
          <a:xfrm>
            <a:off x="5867280" y="1447920"/>
            <a:ext cx="1676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Oval 23"/>
          <p:cNvSpPr/>
          <p:nvPr/>
        </p:nvSpPr>
        <p:spPr>
          <a:xfrm>
            <a:off x="5334120" y="0"/>
            <a:ext cx="2286000" cy="38088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5257800" y="3581280"/>
            <a:ext cx="2286000" cy="381240"/>
          </a:xfrm>
          <a:prstGeom prst="ellipse">
            <a:avLst/>
          </a:pr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25"/>
          <p:cNvSpPr/>
          <p:nvPr/>
        </p:nvSpPr>
        <p:spPr>
          <a:xfrm flipV="1">
            <a:off x="3733920" y="3809520"/>
            <a:ext cx="1447560" cy="2286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6"/>
          <p:cNvSpPr/>
          <p:nvPr/>
        </p:nvSpPr>
        <p:spPr>
          <a:xfrm flipV="1">
            <a:off x="3733920" y="457200"/>
            <a:ext cx="2057400" cy="358128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imer iz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. Negnevitsky: Artificial Intelligence – A Guide to Intelligent Systems, str. 233-240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Zadatak raspoređivanja resursa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Karakteristike zadatk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mpleksan, težak - uključuje mnoga ograničenja (“borba” za ograničenim resursim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pada u klasu NP-kompletn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*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blema (ne može se rešiti tehnikama kombinatornog traganj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edeterministički </a:t>
            </a:r>
            <a:r>
              <a:rPr b="0" lang="sr-Latn-CS" sz="20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linomski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mpletan - odgovori su DA ili NE. Jednostavan algoritam može naći rešenje, ali su ona mnogobrojna i da bi smo svako proverili, treba suviše mnogo vremena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oblem (cilj pravljenja rasporeda)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aći sekvencu isključivanja naponskih jedinica u zadatom vremenskom intervalu - 1 godina – tako da se maksimizira sigurnost sistema napajanj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Ograničenj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istem mora omogućiti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neto rezervn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ličinu energije čak i kada su neki delovi sistema isključeni radi održa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NETO REZERVA(t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KUPNI KAPACITE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3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GUBITAK ENERGIJE(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333399"/>
                </a:solidFill>
                <a:latin typeface="Tahoma"/>
              </a:rPr>
              <a:t>+</a:t>
            </a:r>
            <a:r>
              <a:rPr b="0" lang="sr-Latn-CS" sz="2400" spc="-1" strike="noStrike">
                <a:solidFill>
                  <a:srgbClr val="333399"/>
                </a:solidFill>
                <a:latin typeface="Tahoma"/>
              </a:rPr>
              <a:t> MAX. PREDVIĐENO OPTEREĆENJE (t)</a:t>
            </a:r>
            <a:r>
              <a:rPr b="1" lang="sr-Latn-CS" sz="4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: Ukupni kapacitet: 150MW, a planira se isključenje jedinice koja generiše 20MW u vremenu kada se troši 100MW, znači NETO REZERVU od 30M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Ograničenja, 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ostoji 7 naponskih jedinica (N.J) koje se remontuju svake godine, u trajanju od 3 ili 6 meseci (1 ili 2 uzastopna intervala)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Max. opterećenja po kvartalima su:      80, 90, 65 i 70M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145120" y="2017800"/>
          <a:ext cx="3809880" cy="4145040"/>
        </p:xfrm>
        <a:graphic>
          <a:graphicData uri="http://schemas.openxmlformats.org/drawingml/2006/table">
            <a:tbl>
              <a:tblPr/>
              <a:tblGrid>
                <a:gridCol w="1270080"/>
                <a:gridCol w="1269720"/>
                <a:gridCol w="127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N.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Kapacitet</a:t>
                      </a:r>
                      <a:r>
                        <a:rPr b="0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Peri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Ograničenja, 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državanje svake N.J počinje početkom kvartala i traje 1 ili 2 intervala u kontinuitetu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eto rezerva el. snage treba da je u svakom trenutku veća od n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edstavljanje rešenja kao hromozom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Očigledan, ali ne i najuspešniji nači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Ceo raspored da bude predstavljen kao niz sukcesivnih poslova, fiksne dužine, u binarnom formatu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pr., održavanje postrojenja bi moglo uslediti u redosledu: 1,4,6,3,2,5,7,9,8, tj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001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0100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110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001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010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010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111</a:t>
            </a:r>
            <a:r>
              <a:rPr b="0" lang="sr-Latn-CS" sz="2800" spc="-1" strike="noStrike">
                <a:solidFill>
                  <a:srgbClr val="333399"/>
                </a:solidFill>
                <a:latin typeface="Tahoma"/>
              </a:rPr>
              <a:t>100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Problem: Remont postojenja može ići simultano za više N.J, a dužina remonta nije uključena u hromozom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Predstavljanje rešenja kao hromozoma, </a:t>
            </a:r>
            <a:r>
              <a:rPr b="0" lang="sr-Latn-CS" sz="3200" spc="-1" strike="noStrike">
                <a:solidFill>
                  <a:srgbClr val="333399"/>
                </a:solidFill>
                <a:latin typeface="Tahoma"/>
              </a:rPr>
              <a:t>nastavak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1828800"/>
            <a:ext cx="7580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Hromozom je kombinacija vremena remontiranja svake od 7 jedin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Ukrštanje i mutacija mogu rezultovati 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pogrešnim rezultatom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(npr. NJ 1 posle mutacije može postati 011</a:t>
            </a:r>
            <a:r>
              <a:rPr b="0" lang="sr-Latn-C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0, kao da se remontuje u 3 intervala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33520" y="2895480"/>
          <a:ext cx="8345520" cy="1371600"/>
        </p:xfrm>
        <a:graphic>
          <a:graphicData uri="http://schemas.openxmlformats.org/drawingml/2006/table">
            <a:tbl>
              <a:tblPr/>
              <a:tblGrid>
                <a:gridCol w="1193760"/>
                <a:gridCol w="1190520"/>
                <a:gridCol w="1192320"/>
                <a:gridCol w="1191960"/>
                <a:gridCol w="1192320"/>
                <a:gridCol w="1190520"/>
                <a:gridCol w="1194120"/>
              </a:tblGrid>
              <a:tr h="777960"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J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0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1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0 1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0 0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0:48:46Z</dcterms:created>
  <dc:creator>Zita B.</dc:creator>
  <dc:description/>
  <dc:language>en-US</dc:language>
  <cp:lastModifiedBy>Zita Bosnjak</cp:lastModifiedBy>
  <dcterms:modified xsi:type="dcterms:W3CDTF">2014-06-10T10:18:36Z</dcterms:modified>
  <cp:revision>32</cp:revision>
  <dc:subject/>
  <dc:title>Pravljenje rasporeda održavanja postrojenja pomoću GA</dc:title>
</cp:coreProperties>
</file>