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F676-96D3-497A-B826-E6D88B4E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898-FBDC-4B45-BB71-26967A79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A82E-8FC2-41B8-BA08-FBB20048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E930-46A8-40FA-910B-E9498DB8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4CE5-938C-414B-80C2-2FB1160A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78F0-1217-4B22-8E6D-F8E7AD8F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3B5F-8E22-47C2-8AE1-344B79BB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FDF9-AED0-42D1-A71C-16940CE9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3C9B-B6E7-494E-A25F-8276EFD2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39EF-3AF8-448A-892D-884722B7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EE70-1B05-4B5E-975D-F80C56A4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73B9-82C2-41D4-8F42-F8450D8B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76CD-5E09-46F6-B14C-BD34A317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CD46E-0276-45E0-A99D-AC25563C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BF6B-EAD5-4020-9D43-8D35DD35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E76F-CA27-41F7-A6E8-4C65E586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86F1-2E98-4531-9FB8-44308690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1352-3B7F-4B8D-B562-A46503CA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49BC-6959-4982-BDAA-B818DA41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44D-1C52-45F6-9167-C442A52E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9FC-8725-4B29-BECF-AD752AC9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40F-367C-47E1-B091-5AB89DE9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7C1-BCE0-4120-B046-41EE81C2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FC4-C82F-495C-A0FA-8B2B3E40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4" descr="D:\FRONTPAGE THEMES\CITRUS\CITBANND.PNG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>
                <a:gd name="textAreaLeft" fmla="*/ 0 w 6858000"/>
                <a:gd name="textAreaRight" fmla="*/ 6858360 w 6858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1154-EA32-4A52-AE52-54CCA52F2D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5" descr="D:\FRONTPAGE THEMES\CITRUS\CITBANND.PNG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6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8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>
                  <a:gd name="textAreaLeft" fmla="*/ 0 w 5781600"/>
                  <a:gd name="textAreaRight" fmla="*/ 5781960 w 57816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9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10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211C-8AFF-42EB-B666-7BB4196696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www.analyticsvidhya.com/blog/2015/09/naive-bayes-explained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Statističke metode D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Metode i tehnike analize podata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rof. dr Zita Bošnj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ditional Probabilities fo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Sex = Ma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3886200"/>
            <a:ext cx="7543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agazine promotion = yes | sex = m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4/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atch promotion = yes | sex = m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2/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ife insurance promotion = no | sex = m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4/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redit card insurance = no | sex = ma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4/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male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(4/6) (2/6) (4/6) (4/6) = 8/8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Oval 4"/>
          <p:cNvSpPr/>
          <p:nvPr/>
        </p:nvSpPr>
        <p:spPr>
          <a:xfrm>
            <a:off x="6553080" y="3809880"/>
            <a:ext cx="1295640" cy="152424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858000" y="28195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cc00"/>
                </a:solidFill>
                <a:latin typeface="Times New Roman"/>
              </a:rPr>
              <a:t>vrednosti čitamo direktno iz tabe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 flipH="1">
            <a:off x="7543440" y="3581280"/>
            <a:ext cx="228600" cy="3049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581280" y="5943600"/>
            <a:ext cx="335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cc00"/>
                </a:solidFill>
                <a:latin typeface="Times New Roman"/>
              </a:rPr>
              <a:t>pretpostavljamo međusobnu nezavisnost atrib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 flipH="1" flipV="1">
            <a:off x="4495680" y="5714640"/>
            <a:ext cx="609840" cy="3049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9"/>
          <p:cNvSpPr/>
          <p:nvPr/>
        </p:nvSpPr>
        <p:spPr>
          <a:xfrm flipV="1">
            <a:off x="5105520" y="5638320"/>
            <a:ext cx="0" cy="38124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0"/>
          <p:cNvSpPr/>
          <p:nvPr/>
        </p:nvSpPr>
        <p:spPr>
          <a:xfrm flipV="1">
            <a:off x="5105520" y="5714640"/>
            <a:ext cx="457200" cy="3049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1"/>
          <p:cNvSpPr/>
          <p:nvPr/>
        </p:nvSpPr>
        <p:spPr>
          <a:xfrm flipV="1">
            <a:off x="5105520" y="5714640"/>
            <a:ext cx="1143000" cy="3049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 Probability for Sex=Male Given Evidence 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066320" y="365760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x = male | 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0.0593 /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0000"/>
                </a:solidFill>
                <a:latin typeface="Tahoma"/>
              </a:rPr>
              <a:t>Po analogiji računam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x = female| 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495320" y="365760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imes New Roman"/>
              </a:rPr>
              <a:t>(8/81) *(3/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334120" y="4038480"/>
            <a:ext cx="0" cy="2286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6400800" y="4267080"/>
            <a:ext cx="1066680" cy="533520"/>
          </a:xfrm>
          <a:prstGeom prst="rect">
            <a:avLst/>
          </a:prstGeom>
          <a:noFill/>
          <a:ln w="93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5029200" y="484992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63b1"/>
                </a:solidFill>
                <a:latin typeface="Times New Roman"/>
              </a:rPr>
              <a:t>ne moramo računati jer je za obe hipoteze ista vred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6858000" y="4800600"/>
            <a:ext cx="0" cy="228600"/>
          </a:xfrm>
          <a:prstGeom prst="line">
            <a:avLst/>
          </a:prstGeom>
          <a:ln w="9360">
            <a:solidFill>
              <a:srgbClr val="ff63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 Probability for Sex=Female Given Evidence 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x = female| 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0.0281 /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735200" y="5470560"/>
            <a:ext cx="2347920" cy="5205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0.0593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0.02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724280" y="5638680"/>
            <a:ext cx="3353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cc00"/>
                </a:solidFill>
                <a:latin typeface="Times New Roman"/>
              </a:rPr>
              <a:t>verovatnije je da se radi o </a:t>
            </a:r>
            <a:r>
              <a:rPr b="1" lang="sl-SI" sz="2400" spc="-1" strike="noStrike">
                <a:solidFill>
                  <a:srgbClr val="00cc00"/>
                </a:solidFill>
                <a:latin typeface="Times New Roman"/>
              </a:rPr>
              <a:t>osobi muškog p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6"/>
          <p:cNvSpPr/>
          <p:nvPr/>
        </p:nvSpPr>
        <p:spPr>
          <a:xfrm>
            <a:off x="4114800" y="5715000"/>
            <a:ext cx="380880" cy="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ahoma"/>
              </a:rPr>
              <a:t>Nedostatak Bajesovog klasifikator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Problem nastaje ako je jedno pojavljivanje vred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ti atributa =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Npr.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Br. žena sa osig. kred. kartice 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Tada je proizvod z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Vrednosti ostalih atributa postaju irelevant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Dodaje se mala konstanta </a:t>
            </a:r>
            <a:r>
              <a:rPr b="0" i="1" lang="sl-SI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i imeniocu i brojiocu svakog razlomk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quation 10.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Zero-Valued Attribute Coun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2057400" y="2514600"/>
                <a:ext cx="6210360" cy="29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 is a value between 0 and 1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sually 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 is an equal fractional part of the total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mber of possible values for the attribut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71" name="Group 11"/>
          <p:cNvGrpSpPr/>
          <p:nvPr/>
        </p:nvGrpSpPr>
        <p:grpSpPr>
          <a:xfrm>
            <a:off x="838080" y="2590920"/>
            <a:ext cx="420840" cy="1063440"/>
            <a:chOff x="838080" y="2590920"/>
            <a:chExt cx="420840" cy="1063440"/>
          </a:xfrm>
        </p:grpSpPr>
        <p:sp>
          <p:nvSpPr>
            <p:cNvPr id="172" name="Text Box 8"/>
            <p:cNvSpPr/>
            <p:nvPr/>
          </p:nvSpPr>
          <p:spPr>
            <a:xfrm>
              <a:off x="900000" y="2590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l-SI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914400" y="30891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0"/>
            <p:cNvSpPr/>
            <p:nvPr/>
          </p:nvSpPr>
          <p:spPr>
            <a:xfrm>
              <a:off x="838080" y="3133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l-SI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AutoShape 12"/>
          <p:cNvSpPr/>
          <p:nvPr/>
        </p:nvSpPr>
        <p:spPr>
          <a:xfrm>
            <a:off x="1371600" y="29718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2518560" y="5435640"/>
            <a:ext cx="5013360" cy="5205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cc00"/>
                </a:solidFill>
                <a:latin typeface="Times New Roman"/>
              </a:rPr>
              <a:t>ako atribut ima 2 vrednosti, p=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7"/>
          <p:cNvSpPr/>
          <p:nvPr/>
        </p:nvSpPr>
        <p:spPr>
          <a:xfrm>
            <a:off x="923040" y="43005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.5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2.5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1.5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001000" cy="411480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 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(2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=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cc00"/>
                </a:solidFill>
                <a:latin typeface="Tahoma"/>
              </a:rPr>
              <a:t>k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cc00"/>
                </a:solidFill>
                <a:latin typeface="Tahoma"/>
              </a:rPr>
              <a:t>p=0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+0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(2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+0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+0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+0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33520" y="441972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990720" y="47242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238040" y="4767120"/>
            <a:ext cx="17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5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733920" y="441972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4179960" y="44956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0.01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Nedostajući podac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523520" y="4038120"/>
            <a:ext cx="5867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Sa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yes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-ovi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klasifikatorom se entiteti sa nedostajućim podacima ignoriš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Tahoma"/>
              </a:rPr>
              <a:t>Klasifikacija jedinke sa nedostajućim podacim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gazine Promotio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ch Promotion = </a:t>
            </a:r>
            <a:r>
              <a:rPr b="0" i="1" lang="sl-SI" sz="2800" spc="-1" strike="noStrike">
                <a:solidFill>
                  <a:srgbClr val="00cc00"/>
                </a:solidFill>
                <a:latin typeface="Tahoma"/>
              </a:rPr>
              <a:t>Unkn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 Insurance Promotio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Card Insurance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x =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502360" y="4714920"/>
            <a:ext cx="5758560" cy="5205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cc00"/>
                </a:solidFill>
                <a:latin typeface="Times New Roman"/>
              </a:rPr>
              <a:t>Nepoznatu vrednost ignorišem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gazine promotion = yes | sex = ma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cc00"/>
                </a:solidFill>
                <a:latin typeface="Tahoma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cc00"/>
                </a:solidFill>
                <a:latin typeface="Tahoma"/>
                <a:ea typeface="Times New Roman"/>
              </a:rPr>
              <a:t>watch promotion = </a:t>
            </a:r>
            <a:r>
              <a:rPr b="0" i="1" lang="sl-SI" sz="2400" spc="-1" strike="noStrike">
                <a:solidFill>
                  <a:srgbClr val="00cc00"/>
                </a:solidFill>
                <a:latin typeface="Tahoma"/>
              </a:rPr>
              <a:t>unknown</a:t>
            </a:r>
            <a:r>
              <a:rPr b="0" i="1" lang="en-US" sz="2400" spc="-1" strike="noStrike">
                <a:solidFill>
                  <a:srgbClr val="00cc00"/>
                </a:solidFill>
                <a:latin typeface="Tahoma"/>
                <a:ea typeface="Times New Roman"/>
              </a:rPr>
              <a:t> | sex = male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Times New Roman"/>
              </a:rPr>
              <a:t>)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 ne računa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ife insurance promotion = no | sex = ma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dit card insurance = no | sex = ma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 (4/6)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Times New Roman"/>
              </a:rPr>
              <a:t>(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1.0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4/6) (4/6) = 8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 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Times New Roman"/>
              </a:rPr>
              <a:t>(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1.0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=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 (sex =male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| 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0.1778 / 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P(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 (sex =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e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| 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0.05625 / 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P(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Numerički podac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Moramo znati f-ju raspodele distribucija da bi smo mogli radit sa nji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3. Bajesov klasifikat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gledano u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en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Ulazni atributi s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odjednako važ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međusobno nezavisn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Klasifikator se zasniva na Bajesovoj teore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2362320" y="4495680"/>
            <a:ext cx="1447560" cy="533520"/>
          </a:xfrm>
          <a:prstGeom prst="rightArrow">
            <a:avLst>
              <a:gd name="adj1" fmla="val 50000"/>
              <a:gd name="adj2" fmla="val 67831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114800" y="453708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mada uslovi često nisu ispunjeni, klasifikator u praksi dobro ra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quation 10.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umeric Da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066680" y="3276720"/>
            <a:ext cx="746784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=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nential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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the class</a:t>
            </a:r>
            <a:r>
              <a:rPr b="0" lang="en-US" sz="2000" spc="-1" strike="noStrike">
                <a:solidFill>
                  <a:srgbClr val="00cc00"/>
                </a:solidFill>
                <a:latin typeface="Tahoma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ea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given numerical attribu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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the clas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the attribu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the attribute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2057400" y="2590920"/>
                <a:ext cx="43052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rad>
                    <m:r>
                      <m:t xml:space="preserve">σ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Object 3"/>
          <p:cNvGraphicFramePr/>
          <p:nvPr/>
        </p:nvGraphicFramePr>
        <p:xfrm>
          <a:off x="457200" y="2443320"/>
          <a:ext cx="8182080" cy="297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443320"/>
                    <a:ext cx="8182080" cy="29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Oval 4"/>
          <p:cNvSpPr/>
          <p:nvPr/>
        </p:nvSpPr>
        <p:spPr>
          <a:xfrm>
            <a:off x="6400800" y="3048120"/>
            <a:ext cx="685800" cy="236196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181480" y="55278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imes New Roman"/>
              </a:rPr>
              <a:t>dodat je novi atribut, numeričkog ti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4/6)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2/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(4/6)(4/6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(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age=45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|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sex=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2/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(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age=45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|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sex=fe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775480" y="3048120"/>
            <a:ext cx="336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pretpostavljamo NORMALNU raspode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5"/>
          <p:cNvSpPr/>
          <p:nvPr/>
        </p:nvSpPr>
        <p:spPr>
          <a:xfrm flipH="1" flipV="1">
            <a:off x="5028840" y="3047760"/>
            <a:ext cx="762120" cy="228600"/>
          </a:xfrm>
          <a:prstGeom prst="line">
            <a:avLst/>
          </a:prstGeom>
          <a:ln w="9360">
            <a:solidFill>
              <a:srgbClr val="ff63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"/>
          <p:cNvSpPr/>
          <p:nvPr/>
        </p:nvSpPr>
        <p:spPr>
          <a:xfrm flipH="1">
            <a:off x="5105160" y="3505320"/>
            <a:ext cx="685800" cy="304560"/>
          </a:xfrm>
          <a:prstGeom prst="line">
            <a:avLst/>
          </a:prstGeom>
          <a:ln w="9360">
            <a:solidFill>
              <a:srgbClr val="ff63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7"/>
          <p:cNvSpPr/>
          <p:nvPr/>
        </p:nvSpPr>
        <p:spPr>
          <a:xfrm>
            <a:off x="3581280" y="2438280"/>
            <a:ext cx="3200400" cy="685800"/>
          </a:xfrm>
          <a:prstGeom prst="ellipse">
            <a:avLst/>
          </a:prstGeom>
          <a:noFill/>
          <a:ln w="93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3657600" y="3733920"/>
            <a:ext cx="3200400" cy="685800"/>
          </a:xfrm>
          <a:prstGeom prst="ellipse">
            <a:avLst/>
          </a:prstGeom>
          <a:noFill/>
          <a:ln w="93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09480" y="4724280"/>
            <a:ext cx="5045040" cy="1191240"/>
          </a:xfrm>
          <a:prstGeom prst="rect">
            <a:avLst/>
          </a:prstGeom>
          <a:noFill/>
          <a:ln w="93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Za klasu muškaraca / žena računa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63b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standardnu devijaciju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63b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prosečnu vred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4/6)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2/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(4/6)(4/6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(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age=45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|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sex=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2/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(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(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age=45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|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sex=fe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5775480" y="3048120"/>
            <a:ext cx="336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pretpostavljamo NORMALNU raspode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"/>
          <p:cNvSpPr/>
          <p:nvPr/>
        </p:nvSpPr>
        <p:spPr>
          <a:xfrm flipH="1" flipV="1">
            <a:off x="5028840" y="3047760"/>
            <a:ext cx="762120" cy="228600"/>
          </a:xfrm>
          <a:prstGeom prst="line">
            <a:avLst/>
          </a:prstGeom>
          <a:ln w="9360">
            <a:solidFill>
              <a:srgbClr val="ff63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6"/>
          <p:cNvSpPr/>
          <p:nvPr/>
        </p:nvSpPr>
        <p:spPr>
          <a:xfrm flipH="1">
            <a:off x="5105160" y="3505320"/>
            <a:ext cx="685800" cy="304560"/>
          </a:xfrm>
          <a:prstGeom prst="line">
            <a:avLst/>
          </a:prstGeom>
          <a:ln w="9360">
            <a:solidFill>
              <a:srgbClr val="ff63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3581280" y="2438280"/>
            <a:ext cx="3200400" cy="685800"/>
          </a:xfrm>
          <a:prstGeom prst="ellipse">
            <a:avLst/>
          </a:prstGeom>
          <a:noFill/>
          <a:ln w="93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8"/>
          <p:cNvSpPr/>
          <p:nvPr/>
        </p:nvSpPr>
        <p:spPr>
          <a:xfrm>
            <a:off x="3657600" y="3733920"/>
            <a:ext cx="3200400" cy="685800"/>
          </a:xfrm>
          <a:prstGeom prst="ellipse">
            <a:avLst/>
          </a:prstGeom>
          <a:noFill/>
          <a:ln w="93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609480" y="4724280"/>
            <a:ext cx="5045040" cy="1191240"/>
          </a:xfrm>
          <a:prstGeom prst="rect">
            <a:avLst/>
          </a:prstGeom>
          <a:noFill/>
          <a:ln w="93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Za klasu muškaraca / žena računa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63b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standardnu devijaciju 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63b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prosečnu vredn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Text Box 10" descr=""/>
          <p:cNvPicPr/>
          <p:nvPr/>
        </p:nvPicPr>
        <p:blipFill>
          <a:blip r:embed="rId1"/>
          <a:stretch/>
        </p:blipFill>
        <p:spPr>
          <a:xfrm>
            <a:off x="6303960" y="4290840"/>
            <a:ext cx="25351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rimer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(nastava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4"/>
              <p:cNvSpPr txBox="1"/>
              <p:nvPr/>
            </p:nvSpPr>
            <p:spPr>
              <a:xfrm>
                <a:off x="990720" y="1905120"/>
                <a:ext cx="64767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rad>
                    <m:r>
                      <m:t xml:space="preserve">σ</m:t>
                    </m:r>
                    <m:r>
                      <m:t xml:space="preserve"> </m:t>
                    </m:r>
                    <m:r>
                      <m:t xml:space="preserve">)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sup>
                    </m:sSup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Rectangle 5"/>
          <p:cNvSpPr/>
          <p:nvPr/>
        </p:nvSpPr>
        <p:spPr>
          <a:xfrm>
            <a:off x="685800" y="2743200"/>
            <a:ext cx="7629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(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age=45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|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sex=male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1/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7.69) 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ahoma"/>
              </a:rPr>
              <a:t>-(45-37)</a:t>
            </a:r>
            <a:r>
              <a:rPr b="0" lang="sl-SI" sz="2000" spc="-1" strike="noStrike" baseline="30000">
                <a:solidFill>
                  <a:srgbClr val="000000"/>
                </a:solidFill>
                <a:latin typeface="Tahoma"/>
              </a:rPr>
              <a:t> 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ahoma"/>
              </a:rPr>
              <a:t>2(7.69)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(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age=45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|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sex=male)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0.0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(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age=45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|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sex=female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1/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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7.77) 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ahoma"/>
              </a:rPr>
              <a:t>-(45-43.5)</a:t>
            </a:r>
            <a:r>
              <a:rPr b="0" lang="sl-SI" sz="2000" spc="-1" strike="noStrike" baseline="30000">
                <a:solidFill>
                  <a:srgbClr val="000000"/>
                </a:solidFill>
                <a:latin typeface="Tahoma"/>
              </a:rPr>
              <a:t> 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[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ahoma"/>
              </a:rPr>
              <a:t>2(7.77)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(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age=45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|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sex=female)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0.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(4/6)(2/6)(4/6)(4/6) 0.03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0.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E | sex =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(3/4)(2/4)(1/4)(3/4) 0.05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0.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>
            <a:off x="4435560" y="2835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6509880" y="27432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7392600" y="2698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>
            <a:off x="4664160" y="4070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6919560" y="39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7833960" y="39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rimer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(nastava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685800" y="2286000"/>
            <a:ext cx="80773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sex =male |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)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(6/10) 0.03 / 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P(E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0.0018 / 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P(E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(sex =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f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le |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)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(4/10) 0.04 / 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P(E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sl-SI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0.0016 / </a:t>
            </a:r>
            <a:r>
              <a:rPr b="0" i="1" lang="sl-SI" sz="2400" spc="-1" strike="noStrike">
                <a:solidFill>
                  <a:srgbClr val="000000"/>
                </a:solidFill>
                <a:latin typeface="Tahoma"/>
              </a:rPr>
              <a:t>P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0.0018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0.0016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komitent je pripadnik muškog r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imer 2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114264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63b1"/>
                </a:solidFill>
                <a:uFillTx/>
                <a:latin typeface="Tahoma"/>
                <a:hlinkClick r:id="rId1"/>
              </a:rPr>
              <a:t>https://www.analyticsvidhya.com/blog/2015/09/naive-bayes-explained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2" descr="https://www.analyticsvidhya.com/wp-content/uploads/2015/08/Bayes_41.png"/>
          <p:cNvPicPr/>
          <p:nvPr/>
        </p:nvPicPr>
        <p:blipFill>
          <a:blip r:embed="rId2"/>
          <a:stretch/>
        </p:blipFill>
        <p:spPr>
          <a:xfrm>
            <a:off x="150840" y="2057400"/>
            <a:ext cx="8877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šen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2133720"/>
            <a:ext cx="8534160" cy="26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Yes | Sunny) = P( Sunny | Yes) * P(Yes) / P (Sunn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(Sunny |Yes) = 3/9 = 0.33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Sunny) = 5/14 = 0.36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 Yes)= 9/14 = 0.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(Yes | Sunny) = 0.33 * 0.64 / 0.36 = 0.60, which has higher probability than P (No | Sunny)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asy and fast to predict class of test data set. It also perform well in multi class predi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ssumption of independence holds, a Naive Bayes classifier performs better compare to other models like logistic regression and you need less training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perform well in case of categorical input variables compared to numerical variable(s). For numerical variable, normal distribution is assumed (bell curve, which is a strong assump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219320"/>
            <a:ext cx="77724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categorical variable has a category (in test data set), which was not observed in training data set, then model will assign a 0 (zero) probability and will be unable to make a prediction. This is often known as “Zero Frequency”. To solve this, we can use the smoothing technique. One of the simplest smoothing techniques is called Laplace esti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other side naive Bayes is also known as a bad estimator, so the probability outputs from predict_proba are not to be taken too serious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mitation of Naive Bayes is the assumption of independent predictors. In real life, it is almost impossible that we get a set of predictors which are completely independ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quation 10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10.3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yes Classifi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3"/>
              <p:cNvSpPr txBox="1"/>
              <p:nvPr/>
            </p:nvSpPr>
            <p:spPr>
              <a:xfrm>
                <a:off x="2286000" y="3733920"/>
                <a:ext cx="5334120" cy="16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 is the hypothesis to be test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E is the evidence associated with 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276960" y="3800520"/>
            <a:ext cx="2867040" cy="30574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457200" y="6094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yes, Thomas (1763) An essa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solving a problem in the doctrine of chances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hilosophical Transactions of the Royal Society of London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3:370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pplic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21337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al time Predi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ulti class Predi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xt classification/ Spam Filtering/ Sentiment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commendation System -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hether a user would like a given resource or n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quation 10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0.3 Bayes Classifi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2286000" y="3733920"/>
                <a:ext cx="5334120" cy="16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×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E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 is the hypothesis to be teste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E is the evidence associated with 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AutoShape 5"/>
          <p:cNvSpPr/>
          <p:nvPr/>
        </p:nvSpPr>
        <p:spPr>
          <a:xfrm>
            <a:off x="228600" y="4114800"/>
            <a:ext cx="1828800" cy="1752480"/>
          </a:xfrm>
          <a:prstGeom prst="wedgeRectCallout">
            <a:avLst>
              <a:gd name="adj1" fmla="val 87847"/>
              <a:gd name="adj2" fmla="val -4674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hipoteza, tj. zavisna promenljiva:  klasa koju predviđa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2514600" y="2666880"/>
            <a:ext cx="4343400" cy="762120"/>
          </a:xfrm>
          <a:prstGeom prst="wedgeRectCallout">
            <a:avLst>
              <a:gd name="adj1" fmla="val -39106"/>
              <a:gd name="adj2" fmla="val 127708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svedočanstvo za hipotezu, određeno vrednostima ulaznih atrib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6781680" y="4419720"/>
            <a:ext cx="1828800" cy="1752480"/>
          </a:xfrm>
          <a:prstGeom prst="wedgeRectCallout">
            <a:avLst>
              <a:gd name="adj1" fmla="val -158680"/>
              <a:gd name="adj2" fmla="val -7337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a priorn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l-SI" sz="2000" spc="-1" strike="noStrike">
                <a:solidFill>
                  <a:srgbClr val="000000"/>
                </a:solidFill>
                <a:latin typeface="Times New Roman"/>
              </a:rPr>
              <a:t>verovatnoća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hipoteze, pre prezentovanja svedočanstva 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yes</a:t>
            </a: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-ov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klasifikator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odaci su podskup BP o komitentima – vlasnicima kreditnih kart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redviđamo vrednost atributa Pol – izlazni atri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027"/>
          <p:cNvSpPr/>
          <p:nvPr/>
        </p:nvSpPr>
        <p:spPr>
          <a:xfrm>
            <a:off x="234648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3"/>
          <p:cNvGraphicFramePr/>
          <p:nvPr/>
        </p:nvGraphicFramePr>
        <p:xfrm>
          <a:off x="457200" y="2362320"/>
          <a:ext cx="8226360" cy="31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636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Oval 4"/>
          <p:cNvSpPr/>
          <p:nvPr/>
        </p:nvSpPr>
        <p:spPr>
          <a:xfrm>
            <a:off x="7543800" y="2743200"/>
            <a:ext cx="914400" cy="320040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295760" y="209880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imes New Roman"/>
              </a:rPr>
              <a:t>izlazni atri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3"/>
          <p:cNvGraphicFramePr/>
          <p:nvPr/>
        </p:nvGraphicFramePr>
        <p:xfrm>
          <a:off x="457200" y="2286000"/>
          <a:ext cx="8226360" cy="234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86000"/>
                    <a:ext cx="822636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Oval 4"/>
          <p:cNvSpPr/>
          <p:nvPr/>
        </p:nvSpPr>
        <p:spPr>
          <a:xfrm>
            <a:off x="2438280" y="3657600"/>
            <a:ext cx="381240" cy="30492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 flipH="1">
            <a:off x="1294920" y="3809880"/>
            <a:ext cx="1143000" cy="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 flipV="1">
            <a:off x="2666880" y="3504960"/>
            <a:ext cx="0" cy="15228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272960" y="4842000"/>
            <a:ext cx="552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imes New Roman"/>
              </a:rPr>
              <a:t>4 muškarca su koristila promociju časopis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imes New Roman"/>
              </a:rPr>
              <a:t>što je 2/3 ukupne muške populaci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63b1"/>
                </a:solidFill>
                <a:latin typeface="Times New Roman"/>
              </a:rPr>
              <a:t>3 od ukupno 4 žena je kupilo magaz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8"/>
          <p:cNvSpPr/>
          <p:nvPr/>
        </p:nvSpPr>
        <p:spPr>
          <a:xfrm>
            <a:off x="3124080" y="3962520"/>
            <a:ext cx="381240" cy="304560"/>
          </a:xfrm>
          <a:prstGeom prst="ellipse">
            <a:avLst/>
          </a:prstGeom>
          <a:noFill/>
          <a:ln w="93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2362320" y="4235400"/>
            <a:ext cx="380880" cy="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Nova klasifikacija jedink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gazine Promotio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ch Promotio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Y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 Insurance Promotio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Card Insurance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x =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734200" y="4765680"/>
            <a:ext cx="3775680" cy="192276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ostoje dve hipote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soba je muškog p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soba je ženskog p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BE TESTIRAM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quation 10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mputing The Probability For Sex = Ma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3"/>
              <p:cNvSpPr txBox="1"/>
              <p:nvPr/>
            </p:nvSpPr>
            <p:spPr>
              <a:xfrm>
                <a:off x="1371600" y="4114800"/>
                <a:ext cx="594360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e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le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e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le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e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le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Line 6"/>
          <p:cNvSpPr/>
          <p:nvPr/>
        </p:nvSpPr>
        <p:spPr>
          <a:xfrm>
            <a:off x="6477120" y="4495680"/>
            <a:ext cx="228600" cy="9907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Oval 7"/>
          <p:cNvSpPr/>
          <p:nvPr/>
        </p:nvSpPr>
        <p:spPr>
          <a:xfrm>
            <a:off x="5486400" y="3962520"/>
            <a:ext cx="1981080" cy="6094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6093360" y="5535720"/>
            <a:ext cx="175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cc00"/>
                </a:solidFill>
                <a:latin typeface="Times New Roman"/>
              </a:rPr>
              <a:t>6 od 10 entit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cc00"/>
                </a:solidFill>
                <a:latin typeface="Times New Roman"/>
              </a:rPr>
              <a:t>         </a:t>
            </a:r>
            <a:r>
              <a:rPr b="0" lang="sl-SI" sz="2000" spc="-1" strike="noStrike">
                <a:solidFill>
                  <a:srgbClr val="00cc00"/>
                </a:solidFill>
                <a:latin typeface="Times New Roman"/>
              </a:rPr>
              <a:t>= 3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6T18:47:44Z</dcterms:created>
  <dc:creator>Richard J. Roiger</dc:creator>
  <dc:description/>
  <cp:keywords>Addison-Wesley Publishing</cp:keywords>
  <dc:language>en-US</dc:language>
  <cp:lastModifiedBy>Zita Bosnjak</cp:lastModifiedBy>
  <cp:lastPrinted>2001-11-21T22:42:06Z</cp:lastPrinted>
  <dcterms:modified xsi:type="dcterms:W3CDTF">2018-01-22T12:42:41Z</dcterms:modified>
  <cp:revision>340</cp:revision>
  <dc:subject/>
  <dc:title>Data Mining A Tutorial-Based Primer</dc:title>
</cp:coreProperties>
</file>